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</p:sldMasterIdLst>
  <p:notesMasterIdLst>
    <p:notesMasterId r:id="rId42"/>
  </p:notesMasterIdLst>
  <p:sldIdLst>
    <p:sldId id="256" r:id="rId43"/>
    <p:sldId id="257" r:id="rId44"/>
    <p:sldId id="258" r:id="rId45"/>
    <p:sldId id="259" r:id="rId46"/>
    <p:sldId id="260" r:id="rId47"/>
    <p:sldId id="261" r:id="rId48"/>
    <p:sldId id="262" r:id="rId49"/>
    <p:sldId id="263" r:id="rId50"/>
    <p:sldId id="264" r:id="rId51"/>
    <p:sldId id="265" r:id="rId52"/>
    <p:sldId id="266" r:id="rId53"/>
    <p:sldId id="267" r:id="rId54"/>
    <p:sldId id="268" r:id="rId55"/>
    <p:sldId id="269" r:id="rId56"/>
    <p:sldId id="270" r:id="rId57"/>
    <p:sldId id="271" r:id="rId58"/>
    <p:sldId id="272" r:id="rId59"/>
    <p:sldId id="273" r:id="rId60"/>
    <p:sldId id="274" r:id="rId61"/>
    <p:sldId id="275" r:id="rId62"/>
    <p:sldId id="276" r:id="rId63"/>
    <p:sldId id="277" r:id="rId64"/>
    <p:sldId id="278" r:id="rId65"/>
    <p:sldId id="279" r:id="rId66"/>
    <p:sldId id="280" r:id="rId67"/>
    <p:sldId id="281" r:id="rId68"/>
    <p:sldId id="282" r:id="rId69"/>
    <p:sldId id="283" r:id="rId70"/>
    <p:sldId id="284" r:id="rId71"/>
    <p:sldId id="285" r:id="rId72"/>
    <p:sldId id="286" r:id="rId73"/>
    <p:sldId id="287" r:id="rId74"/>
    <p:sldId id="28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notesMaster" Target="notesMasters/notesMaster1.xml"/><Relationship Id="rId43" Type="http://schemas.openxmlformats.org/officeDocument/2006/relationships/slide" Target="slides/slide1.xml"/><Relationship Id="rId44" Type="http://schemas.openxmlformats.org/officeDocument/2006/relationships/slide" Target="slides/slide2.xml"/><Relationship Id="rId45" Type="http://schemas.openxmlformats.org/officeDocument/2006/relationships/slide" Target="slides/slide3.xml"/><Relationship Id="rId46" Type="http://schemas.openxmlformats.org/officeDocument/2006/relationships/slide" Target="slides/slide4.xml"/><Relationship Id="rId47" Type="http://schemas.openxmlformats.org/officeDocument/2006/relationships/slide" Target="slides/slide5.xml"/><Relationship Id="rId48" Type="http://schemas.openxmlformats.org/officeDocument/2006/relationships/slide" Target="slides/slide6.xml"/><Relationship Id="rId49" Type="http://schemas.openxmlformats.org/officeDocument/2006/relationships/slide" Target="slides/slide7.xml"/><Relationship Id="rId50" Type="http://schemas.openxmlformats.org/officeDocument/2006/relationships/slide" Target="slides/slide8.xml"/><Relationship Id="rId51" Type="http://schemas.openxmlformats.org/officeDocument/2006/relationships/slide" Target="slides/slide9.xml"/><Relationship Id="rId52" Type="http://schemas.openxmlformats.org/officeDocument/2006/relationships/slide" Target="slides/slide10.xml"/><Relationship Id="rId53" Type="http://schemas.openxmlformats.org/officeDocument/2006/relationships/slide" Target="slides/slide11.xml"/><Relationship Id="rId54" Type="http://schemas.openxmlformats.org/officeDocument/2006/relationships/slide" Target="slides/slide12.xml"/><Relationship Id="rId55" Type="http://schemas.openxmlformats.org/officeDocument/2006/relationships/slide" Target="slides/slide13.xml"/><Relationship Id="rId56" Type="http://schemas.openxmlformats.org/officeDocument/2006/relationships/slide" Target="slides/slide14.xml"/><Relationship Id="rId57" Type="http://schemas.openxmlformats.org/officeDocument/2006/relationships/slide" Target="slides/slide15.xml"/><Relationship Id="rId58" Type="http://schemas.openxmlformats.org/officeDocument/2006/relationships/slide" Target="slides/slide16.xml"/><Relationship Id="rId59" Type="http://schemas.openxmlformats.org/officeDocument/2006/relationships/slide" Target="slides/slide17.xml"/><Relationship Id="rId60" Type="http://schemas.openxmlformats.org/officeDocument/2006/relationships/slide" Target="slides/slide18.xml"/><Relationship Id="rId61" Type="http://schemas.openxmlformats.org/officeDocument/2006/relationships/slide" Target="slides/slide19.xml"/><Relationship Id="rId62" Type="http://schemas.openxmlformats.org/officeDocument/2006/relationships/slide" Target="slides/slide20.xml"/><Relationship Id="rId63" Type="http://schemas.openxmlformats.org/officeDocument/2006/relationships/slide" Target="slides/slide21.xml"/><Relationship Id="rId64" Type="http://schemas.openxmlformats.org/officeDocument/2006/relationships/slide" Target="slides/slide22.xml"/><Relationship Id="rId65" Type="http://schemas.openxmlformats.org/officeDocument/2006/relationships/slide" Target="slides/slide23.xml"/><Relationship Id="rId66" Type="http://schemas.openxmlformats.org/officeDocument/2006/relationships/slide" Target="slides/slide24.xml"/><Relationship Id="rId67" Type="http://schemas.openxmlformats.org/officeDocument/2006/relationships/slide" Target="slides/slide25.xml"/><Relationship Id="rId68" Type="http://schemas.openxmlformats.org/officeDocument/2006/relationships/slide" Target="slides/slide26.xml"/><Relationship Id="rId69" Type="http://schemas.openxmlformats.org/officeDocument/2006/relationships/slide" Target="slides/slide27.xml"/><Relationship Id="rId70" Type="http://schemas.openxmlformats.org/officeDocument/2006/relationships/slide" Target="slides/slide28.xml"/><Relationship Id="rId71" Type="http://schemas.openxmlformats.org/officeDocument/2006/relationships/slide" Target="slides/slide29.xml"/><Relationship Id="rId72" Type="http://schemas.openxmlformats.org/officeDocument/2006/relationships/slide" Target="slides/slide30.xml"/><Relationship Id="rId73" Type="http://schemas.openxmlformats.org/officeDocument/2006/relationships/slide" Target="slides/slide31.xml"/><Relationship Id="rId74" Type="http://schemas.openxmlformats.org/officeDocument/2006/relationships/slide" Target="slides/slide32.xml"/><Relationship Id="rId75" Type="http://schemas.openxmlformats.org/officeDocument/2006/relationships/slide" Target="slides/slide33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dt" idx="3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ftr" idx="4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6"/>
          <p:cNvSpPr>
            <a:spLocks noGrp="1"/>
          </p:cNvSpPr>
          <p:nvPr>
            <p:ph type="sldNum" idx="4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2456-A263-4091-8893-B37EF1C15DB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7984-9E4C-4104-8C0A-D21A794C2FC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What does the data tell 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Draw graph of cycle times on smartsheets to show 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7377-F784-407D-9DCE-A9B708735779}" type="slidenum">
              <a:rPr b="0" lang="en-CA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32F2-4C1F-4A9B-ACFA-DB0CC4E6C3CA}" type="slidenum">
              <a:rPr b="0" lang="en-CA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ossible field trip to see Subway in actio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3E19-2048-415D-BC47-CAD7426AB44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7B6C-062B-45EC-A881-6550DD62B2AD}" type="slidenum">
              <a:rPr b="0" lang="en-CA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Draw spaghetti diagram on flipchart at each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B909-687A-4946-8C55-4552FF6EFE40}" type="slidenum">
              <a:rPr b="0" lang="en-CA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Example only – of what to look for – the numbers themselves are not for discussion – just to show the conce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739A-8B14-463A-85FE-42AC03BC5AD3}" type="slidenum">
              <a:rPr b="0" lang="en-CA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RA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sldImg"/>
          </p:nvPr>
        </p:nvSpPr>
        <p:spPr>
          <a:xfrm>
            <a:off x="596880" y="274680"/>
            <a:ext cx="5665680" cy="4249800"/>
          </a:xfrm>
          <a:prstGeom prst="rect">
            <a:avLst/>
          </a:prstGeom>
          <a:ln w="0">
            <a:noFill/>
          </a:ln>
        </p:spPr>
      </p:sp>
      <p:sp>
        <p:nvSpPr>
          <p:cNvPr id="1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Note that there different categories that can be used according to the business enviro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32DA-A28D-4470-9E67-15DE8CD36E10}" type="slidenum">
              <a:rPr b="0" lang="en-CA" sz="1200" spc="-1" strike="noStrike">
                <a:solidFill>
                  <a:srgbClr val="000000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Geneva"/>
              </a:rPr>
              <a:t>Finish the day by doing a review…  See next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  <a:ea typeface="Geneva"/>
              </a:rPr>
              <a:t>This is an approach that is more project-based and lends itself to major large scale improvements because its structured approach better coordinates resources and activ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  <a:ea typeface="Geneva"/>
              </a:rPr>
              <a:t>The content for this program is structured around DMAIC because it is a “roadmap” that can be easily followed to ensure that you are on the right track – especially important when you are starting out and can benefit from the structure – so you can use your deep thinking energy on observation and analysis – not planning your next ste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D036-46C4-4DA8-A4C0-0A90E4B75B3C}" type="slidenum">
              <a:rPr b="0" lang="en-US" sz="1200" spc="-1" strike="noStrike" baseline="-25000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Which of these did you see in the DOA simul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2BCD-F22D-4080-A677-07FD247E04D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Explain the subtlety of why there is a difference between the two ty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BF8A-F3F9-42FF-90F1-80ECC08E9F3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56DBE-59FE-4CFB-8BCB-0D07A0B024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EFCC6-7CE0-4431-93CF-850006ECFCC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DA1CAB-E64A-4E62-B025-6BDB97DC962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94E9AC-587E-4A37-B24E-9003F3E9101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389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E6A778-989F-4702-AAAF-DDC3D07E262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9C555B-727B-4240-A0BE-E936EED7575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FE095A-33A2-437B-8B78-C36AC3F15E6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DA59B5-FDE1-406B-9785-C81C3E31A68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63F69A-7966-4E00-B2D1-0AAAF93306F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F39109-8533-401F-A0C5-F102697BCAA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7177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2161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21896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7177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2161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91F0E4-0666-46DB-A218-DCFA0F05DDA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07292-2698-497A-BD35-2038AB42A1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1EE89-4925-49FE-813C-9BC76C67BF0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A2380-F240-433D-8761-B4299347646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1DA3C-1A31-439C-846C-6D69A7257BF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CC0A5-1973-4FDE-A3F4-FD67117E8D3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B2D7F-3C00-46A5-BCC3-0C0DA5A44AA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389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96F9A-D276-4683-A712-6B144156444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35216-1E99-4778-B21C-E0F89774A57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05813-C09A-458F-97D1-9CA53F80646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F01D2-D7BE-4BBB-B1E1-C5EB6DF91D2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9F696-7402-4A5B-A3B9-5F0225FEE86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14387-F19A-4E2D-9FE4-5AB6D0BD15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177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161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896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177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161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9EEF1-9DDB-4DF5-AA23-67152545408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7177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161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121896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7177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2161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0C8E8-D8D6-4588-814D-DDDBC713327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555C90-064C-4EA1-8C81-99D5B4E45BB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E535AE-A0DC-4182-AB9C-DDA09C843DC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B7E8F6-1067-487F-9939-33E681838A6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E3B522-00E5-45D3-A655-2D682105086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BC147E-6B24-4C9F-AE76-A8156C01819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389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CDD5BB-2C80-4AAD-8AD6-D5203637C73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D82369-F6EF-4A32-878C-E218BA3AF77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FDC8DD-071E-4E3E-82DC-025D5FB07D7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9A4FE4-B2C4-45D2-BCB0-B63E8BDB7F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B65CE-72E9-4FFB-A9A2-D3D3DBE3785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016A37-1E44-4ED9-8D96-A6B814D17C2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EA5877-89E0-4A78-89EC-6FC9413AD7A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7177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161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121896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7177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2161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6D87F7-64ED-421B-89A0-79FBE777AE4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735364-B118-493E-9669-83BFC3888A3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F7723A-FAE2-49F0-83C6-A406B98C236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6A37CA-0597-426C-9D50-70D0C5CAFD5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F7B743-BA16-4DFC-9C69-47C7F9F62C6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DA8A72-9121-4B12-AB40-11549474E72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389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5528C2-7207-4CC3-A154-F9B01836DEA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BB8453-075B-484E-B8D3-F8ADCA2EE1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7295B-6485-4D3F-BBB0-30378BC6A44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E41B98-4CB0-4AB0-B8C8-DE8E473C3B1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F0C477-6AB5-43EA-B790-6F9531D12C2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C45C53-C66F-4558-BCD2-B9BBE3EDE49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3D827C-F745-4653-A2F1-E1F5B9B2707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7177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2161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121896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7177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2161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A6B897-F88E-4763-9FAC-2C680C32D07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6DA96-0B0A-41F0-8A6E-CBC2DCC377E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FEB56-9C34-474E-88ED-3E1B14C54BC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41AEA-EBA3-4178-B280-F7546E3DEE7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5C2A8-2A59-49BB-B882-D8E2547F948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DB26E-62BD-413E-847A-D3D6399407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81724-F217-4CC0-A24E-B36EA33F19D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389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BC418-04E7-4744-A399-E48F44A9ACC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0BBA8-85A1-4D16-8BB9-92BA4A8A37A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34645-FE96-4074-AAF2-381C63F143B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DABA8-AB1C-439A-9516-9BEF40E01A3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58F69-8226-4B3E-B5BE-C1FE6987BF4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9A28D-E658-4EA7-8832-23264953F39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7177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161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21896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7177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2161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735F0-FEA3-4D4E-B81F-FF138E059A7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F05FA0-8F64-4600-94AD-C11F55933EE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37FD81-614C-4DD5-8D5D-3E9F194E730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B11D80-2131-4D58-BF52-13B36FF459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F22B8-A4DC-4C98-A470-60460857ABF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029482-E461-4F13-ABF3-123860071E2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37F8EB-D2D9-400C-B581-162AB7AB655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389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AE3E95-096F-42F0-8B3C-F935095642C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89F4E2-192C-498F-A7C1-8F844DF5158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CBB173-C193-4C27-9005-3CCD538FC35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2A0125-3BF0-4F7D-9C7C-FE4D883E8B0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8D52C4-F875-4F1E-B3A8-E3A77DCEA3D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B06D6E-55A7-425A-B086-308E81530B1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7177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2161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121896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7177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2161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6AE5BD-CE2A-4AAC-9084-5C4969EABED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D79CD2-BC4B-4E9C-A387-6F53B216DD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95E97-B138-4CFB-894F-39414329CBB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4A293F-C012-4371-845D-6A50D13881F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2AD344-49CD-4FE3-8F7E-507957ECE72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667AA0-15D7-4633-8E70-73213B803DD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6F7529-5755-46AB-8568-859A0FDB832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389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FE055F-3063-4021-934A-F4DA59EFF56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6D708E-AB06-4F5D-AA5E-B0EE31BB893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4A512E-3135-4CB8-8023-E45E5BA2FF8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D54241-CA8F-4EBB-81F9-182893764AB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105FF4-B9EB-48BF-B90B-671BB84040B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3D2078-4ABF-4515-9351-260D4467BA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389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7C2CB-B795-4DEC-B6CC-D07FEAAB188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7177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161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121896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7177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2161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32AB85-5BA5-4558-B3BC-F0508267470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389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0889D-13C4-4CEE-8D3A-E2E77DB21AD7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7177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2161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21896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7177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2161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4B92D-DEE8-4449-9701-2F9C31247C8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378CA-F61C-4F0D-A6AC-32B64FB7997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70E1E-D295-486B-8EA3-13DA56068B3A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C458B-2786-403F-A9EC-7C9CF3151B8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774E2-13E2-4F67-9042-4AB958514D6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389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5CCA2-81D9-4639-8999-42ED9E8FF71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E2774-9425-4C4C-A161-315934B10E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5C1A3-34C2-4A1A-84DC-0105A81B2A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C9827-6A7C-4F4B-B5AD-B26DA4ECBCD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34D45-28C0-44D5-8A2E-289A0F74DF9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FFF49-67F0-40FB-A6FD-928CF0D11DE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4237F-42A9-4D32-A098-0E74A063F4F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58D06-9AC7-4C89-8708-455FAF64A5F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7177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2161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121896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7177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2161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BF4D5-42D7-4BC7-968F-E94AA07521AF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C48D71-1501-4D93-987E-1F7BCE2A2DAC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67DEBF-B3A7-4191-A9A6-87F266EBAC0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805DE5-A7EE-42DD-9812-B8C24F90224C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AA0B83-45C9-4422-912E-A14F089DB4A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DFF235-6A3D-4112-B08D-660A14D8AB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DFDB6-C4EB-4B9A-832A-3A8454CE9736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389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8E2B7A-1FF4-4A28-AA3C-FE1EF3D8F5D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03E600-7465-43FC-AAFB-E3D69506B41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46FCD0-C744-409A-BC3A-A5D5AE302E6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A74B88-B386-4B7B-B60B-2BCBEE39D26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13009C-E943-43F8-B764-37666A269A2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B6771A-A7FE-4479-9B3D-4D3B66B7D3F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7177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2161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121896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7177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2161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0A3F9F-9279-47CE-94A6-D7B1ACF63960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B603CC-52C5-429E-835F-6EEE61318DE0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18122A-4E3E-4654-96C8-574CFD70D14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6AE971-F4DD-4CD2-B700-15DCC017EF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F7D93-C896-46AF-BDB6-8CC2D35601DF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B2EA5C-C429-4516-B162-29A545D2CCA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05025D-080C-4D64-BF90-239B0971116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389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1E1A17-843B-4BEA-9EBA-333E995EF5B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D4ED4E-1BD5-4904-B42B-4B74702C310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AF8C6B-12CC-461E-A273-481D3966FE6D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4522E8-CB34-42EE-ACF9-5C311F54DD2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CB29FC-1DC9-41D0-95CE-239A56212A09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252BC4-ED01-4E7E-9645-748CD9322C7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7177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2161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21896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7177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2161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EBDD54-208C-4215-8DF6-BC77EF431EB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DC4EA-1775-4AB0-9259-2302425B95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68648-27F9-4FCC-852A-BF1BBF6F9878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89F1A-9680-4A29-B754-7563463FA396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D0949-6067-433C-8F67-74750EEC2042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A4D38-6763-4397-825E-632E5FFEC39A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DC0AD-8CDE-4A08-B072-C3CAF9BCEE6A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389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C880A-B5AA-4BBE-B464-8CD3534D5D8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E594E-FB25-4C5F-8131-A03E79294618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6AB6B-D0B0-400A-A5EA-2B219E50844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0DA34-1A1C-414A-A22F-E9069D6ED469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CC65A-69C6-4BAA-BE90-66556E6C2809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F9233-DB5C-4902-9DC3-4D9509CA2F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177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161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1896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177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161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73578-E7C3-44B8-A255-7970A12C7FA2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7177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2161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121896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7177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2161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070AF-06F4-49D3-A299-73BEA4A13D8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F6A990-2F5A-404E-9AF7-DFAD034061F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AAE2AF-0899-4D7C-8046-3601FC3DBCF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C9BC2E-586A-43B5-BA51-602BAE6B84D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095FAC-399C-484C-B75D-84F61FBC8A1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A1D912-2277-4E0F-965E-412C7CFC1CA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389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B3A2A0-FC42-4B50-984C-DC8D390F6CB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854D48-5D18-4908-9F4C-EBDD9C5DAEF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EA8523-7B38-4092-922B-4068689AA3D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B052EC-CE8E-4420-9EC5-A16C04797BC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B1D4-2002-4077-9BAC-954438F2706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06AF4F-A064-46C7-BFA6-04AC9F45EE2D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E4774C-4F0D-4E28-8C05-DD14F8EE9BB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7177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2161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121896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7177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2161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1DDF3D-305A-4D86-A2A2-52FC2BEC150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CC5CC5-2396-4DAC-9E20-A2A9F3B8AB7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088A8A-CFD3-47E9-A47D-0F1585DB6B4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3E7438-DC00-4E21-97B8-DC17866F4240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84AAAB-E16A-45EE-86DA-395A0981671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70B1AE-E284-4FDD-AAE1-BEB867D2B1FC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389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C64975-C4C4-42C0-B88B-194EE055544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1872D0-ADF7-4261-ACA9-DE2EA214754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3531-184F-4862-A0F7-D17EF2B043A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B1168E-ED25-4FA5-BA5D-882BAC1A3114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021EF2-6ABF-4B97-903B-DF37E27B22A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1ABF3E-EE10-411C-AFBC-608E854A173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F7DB17-9BBB-42EA-B238-F37633E9DF7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7177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2161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121896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37177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62161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A61E30-5971-4EE9-B645-8223B80EC0A6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58EC4-E4DC-4916-AA19-A58576A1738A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9E428-C833-48C9-B8F3-BA7228151F4F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74E65-3000-4E5B-80D5-220E8874B70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7EF6F-084C-4E49-8684-BC29267C9C8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628C4-7481-459A-9404-0D4F95DF0B9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CFB9-085D-4A1E-A2EF-DD4E84A9AC6B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389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0FE62-D715-4EFB-9BA8-C29BA6D1CFF8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F55E8-E319-4912-87F8-312634F714C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14AC7-AC25-49D2-87AE-29589E991BC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930F9-29B9-4104-BA6A-E5FFE80DCC6B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9BB4A-9FC3-41DA-864E-260193775ED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C622B-FCB5-4B40-81F7-7169DC701545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37177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62161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121896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6"/>
          <p:cNvSpPr>
            <a:spLocks noGrp="1"/>
          </p:cNvSpPr>
          <p:nvPr>
            <p:ph/>
          </p:nvPr>
        </p:nvSpPr>
        <p:spPr>
          <a:xfrm>
            <a:off x="37177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7"/>
          <p:cNvSpPr>
            <a:spLocks noGrp="1"/>
          </p:cNvSpPr>
          <p:nvPr>
            <p:ph/>
          </p:nvPr>
        </p:nvSpPr>
        <p:spPr>
          <a:xfrm>
            <a:off x="62161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5AF5F-523D-44CD-B7E9-CF2B4CAF5FD9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AFB069-A98F-4CEB-A861-A4A8505585B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8872E8-E380-4E06-9C52-ED0CAB4FA3F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BD2D27-A0B0-490D-B372-4BC4D06E15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F2CB-D7D5-407F-A4C6-E6E3A0DD912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44067F-B7A4-41B5-8714-4794C18A62CF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B768F2-73AD-45C4-A95E-90880CF7B41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389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DC336F-349B-4A25-88B9-68200E9A25D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05C412-ECA3-4129-BC4B-C6F23D8DB83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40F40E-878E-43CF-806F-4BC69137857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726FF9-D7E9-4006-8874-6EBFC9A9589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EEF61B-29D3-4AF4-B26E-CA1CB67DDAE6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560F34-9D37-4878-81AE-B9AC2C12112A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7177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2161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121896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7177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2161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FAE63C-EA6E-40FB-B305-A30CE5826106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F58FD7-DFCC-46FA-9FB4-BA7BACBE44A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D7A2-B5AB-4AC8-880F-3B04FD23B70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A4AC0A-E1AC-4886-8301-75D071B381E4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2C55F0-50DB-4C8C-93FA-696F1591D84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C5CD39-07F4-4130-8C0A-FAE8AEE5A67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2F7076-F5E3-4270-AD21-4F8A1BD47E19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389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88F2BD-9055-455A-8251-AA6763A1518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FD30CB-5B60-499A-A0FF-58AD79B00C1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E22511-2F2D-4323-BD48-167484A26487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3EC2B7-202A-4966-83CC-25DD22121185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4D7F8F-A28A-4672-AB1C-17E87DE94E44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89390D-D8A5-4040-AE10-D1E60BE1C3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24D39-9CE8-4010-B224-5F9002CF0C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389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63A2-CBC8-4266-8550-91EEE5EA0F90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37177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62161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121896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6"/>
          <p:cNvSpPr>
            <a:spLocks noGrp="1"/>
          </p:cNvSpPr>
          <p:nvPr>
            <p:ph/>
          </p:nvPr>
        </p:nvSpPr>
        <p:spPr>
          <a:xfrm>
            <a:off x="37177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7"/>
          <p:cNvSpPr>
            <a:spLocks noGrp="1"/>
          </p:cNvSpPr>
          <p:nvPr>
            <p:ph/>
          </p:nvPr>
        </p:nvSpPr>
        <p:spPr>
          <a:xfrm>
            <a:off x="62161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F1AF28-BD1C-4D49-9DEC-F29F039C43AB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0A16D-4C6F-423C-A24E-0D8D11500A13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AC817-BD22-4104-BC76-E2E0D9A1C9BE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C4DA0-00C1-4DC1-82B9-E1D4EF0B804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B3A6D-953B-45FE-8FE7-88C9802F5D11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F36CC-49BB-4F76-92FD-2B3FA69348D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389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206D6-7FB5-4937-8CFE-C4D100A31230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75B45-F449-4FA3-B86E-BC0E62BC7F47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5D68A-E720-4FCD-BF9D-E80600F2E51A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C1048-5F83-4B2F-9EAA-5E0BFEEC507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AE9A-27A1-4630-AF66-22EF270BC1CD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681D7-ECAE-4866-8B08-C69329C0F01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BC456-ED2F-4EA3-B66B-75B2FC24CE63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37177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2161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21896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37177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2161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CED41-A00D-431F-901B-DE06C23F6275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BD0460-1B24-43BD-A24B-14F7729FF52E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D24DDF-4359-4A8A-9B66-8039A5A7A375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01437F-5915-430B-A00F-026898D83BCB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95F9DD-0782-4E76-8E17-D318F4DF5CC3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4A31C6-3854-4E09-ADBA-C89EC490AD1B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389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5B09B5-FC94-418D-830E-80590D34400C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42735C-77F7-4844-98B1-9FF04AC339D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2218-7F1A-437C-9C82-8EB8A4BCF971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6787DD-2BDC-4D3C-B463-7CD3728069C4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10158F-5B6F-4BB2-ACDC-712FA7CD9EBE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C69661-DAD2-404D-91A6-7AD14BBE62E8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9176DC-2CCB-461D-9766-43166195C750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7177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2161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121896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7177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2161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3C8241-3C30-48A5-9A36-BAB571D7811C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4BB4BD-A5C7-46CA-A833-2DE365F3CF5B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0E01BB-3C46-4383-BFA1-5D465B1D71B6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07EEF3-10F1-47C2-8FCE-265BF61C706C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FD8A87-71E8-4032-9B18-CA0F347F5E08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01BA7D-6CA0-42F0-BEBB-18FC365B70D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0466-37D8-4A0D-9BF6-F3CDA74DA4E3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389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3A5EA2-AE27-424B-82B4-BC7C36AB1D46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8B9787-BE0C-430B-B245-8BB8FE4F3936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B6BB1E-2314-483A-8817-46D8C0748FDD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DBBF2E-5498-4E2D-B3C0-ADD249AFFCAE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93B0D7-B64A-4DA0-B965-6CA482A585A5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AC5B15-9E12-46BA-AEE5-620B3224BB71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7177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2161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121896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7177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2161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350F07-D748-4545-8072-3D8711A3C246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B07E0-4E34-4FA1-8BD5-60AE080E2FD8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1F9BC-BE4E-4EFC-9CAB-FF2202C7E83A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A0708-03E0-4D1A-AF8D-93FDD0E6B74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B7F6-0434-47D4-9259-BD55A9549DFE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A3616-A305-4595-8100-EFE47A2E3A97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94418-CB7B-4A4D-BC7D-FDE81CC7EE09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389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3EA5C-D18D-4B18-8E4F-2C76712DBF6D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6E5C0-96A9-48B9-834F-58EC25B6706B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4CF9D-6484-4C94-9A8B-797A630E58F7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81D75-0472-461C-B038-5EDB39EA2925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37322-8F7D-483F-92AD-861988AE513C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08B82-A25E-424E-982C-6C22512772AD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7177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2161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121896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37177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62161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15BB4-C530-4A12-B132-F1376C65A013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0D0B9F-8F29-4E25-B80E-73AB15380B8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579B-EA79-405E-B73A-90C27E8AB020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E9F500-5935-4CB5-82D2-A91F997E618D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6D6298-504A-4C1D-A306-7A59E2D065A0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B9C4DC-EF46-4723-A9D8-F7EEBCC24DEE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EA3A12-0738-4DC9-8818-4AA1EF6D003A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389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9075E9-1C7B-43DA-9274-0D7F654954E1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9B479C-6F99-4811-B2E9-4D2CE8597E39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63BF66-8AD0-486F-908F-E42F8EA8E796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587FAE-5418-430A-96CE-A1B7C45EE775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0B631D-7F98-4007-885F-BB7C30D1A545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B5337A-C670-4022-9138-0A69CD51CD2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7177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161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1896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7177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161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BDC6-5326-4538-B02E-691D2E94EA06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37177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62161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121896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6"/>
          <p:cNvSpPr>
            <a:spLocks noGrp="1"/>
          </p:cNvSpPr>
          <p:nvPr>
            <p:ph/>
          </p:nvPr>
        </p:nvSpPr>
        <p:spPr>
          <a:xfrm>
            <a:off x="37177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7"/>
          <p:cNvSpPr>
            <a:spLocks noGrp="1"/>
          </p:cNvSpPr>
          <p:nvPr>
            <p:ph/>
          </p:nvPr>
        </p:nvSpPr>
        <p:spPr>
          <a:xfrm>
            <a:off x="62161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AED3D5-F95D-4198-9503-4DA985C40D61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8845A2-0876-4252-899C-B53B0F837BBF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FAE154-7967-4E31-9CB2-8921691ABBE5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A78B9C-5957-4444-8AC4-B76DE5F744F0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9FCEA1-F691-4A1C-A0B0-7CE6746A8859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635208-18C2-498A-A421-A4402D3AC549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389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A895E0-BD87-4946-B3F3-1F9BF8121E37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B7180D-FA41-40AC-8577-7A5D9D252205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8FD91C-0653-4388-A60E-9EDBE6B0ADDE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2CE089-F906-4E02-B83A-D505A93583C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AB8693-F7E2-4C06-8785-09A680E8E315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30E595-70F1-4368-AEB7-F0B2A67AC99E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37177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2161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/>
          </p:nvPr>
        </p:nvSpPr>
        <p:spPr>
          <a:xfrm>
            <a:off x="121896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6"/>
          <p:cNvSpPr>
            <a:spLocks noGrp="1"/>
          </p:cNvSpPr>
          <p:nvPr>
            <p:ph/>
          </p:nvPr>
        </p:nvSpPr>
        <p:spPr>
          <a:xfrm>
            <a:off x="37177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7"/>
          <p:cNvSpPr>
            <a:spLocks noGrp="1"/>
          </p:cNvSpPr>
          <p:nvPr>
            <p:ph/>
          </p:nvPr>
        </p:nvSpPr>
        <p:spPr>
          <a:xfrm>
            <a:off x="62161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2E593F-C43B-4CA2-A37C-925EDA5A1072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8362B-C1FC-4DE0-B6E6-F7344F126988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59F5B-20D2-4388-B3BD-1E21C45F1259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298FF-3548-415D-BEDA-5B127578C310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A17D4-24D9-4AB6-A097-90B2C169005B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2BB8C-3046-4A22-8808-511652DE3488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389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B8281-0C77-405D-B3EB-DE99E6BD5077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DE7A9-13BE-43A8-B298-D7E9D993583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EA806-1DA2-470E-ACAC-218D78CD8EF3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088B4-814A-4941-984E-9DDE5D16F304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BBE75-C708-4334-BE2A-2170E7B7A9E5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EF7CB-9CE6-47A4-BD37-1540B836709D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37177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62161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121896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6"/>
          <p:cNvSpPr>
            <a:spLocks noGrp="1"/>
          </p:cNvSpPr>
          <p:nvPr>
            <p:ph/>
          </p:nvPr>
        </p:nvSpPr>
        <p:spPr>
          <a:xfrm>
            <a:off x="37177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7"/>
          <p:cNvSpPr>
            <a:spLocks noGrp="1"/>
          </p:cNvSpPr>
          <p:nvPr>
            <p:ph/>
          </p:nvPr>
        </p:nvSpPr>
        <p:spPr>
          <a:xfrm>
            <a:off x="62161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E4DDA0-911B-4C37-8F64-A4D1FDE0D09D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CEB806-85A2-4687-900D-4081D2A8A2A2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012CFC-C198-4B7C-B17F-AC086BC81573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E5905E8-D476-4BE5-8BE8-8AE0E8A5EAA4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5706FFB-ECA2-4D06-9EAF-A61B991C3460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A80B65-5020-4BDD-BF5E-0CE9F24F029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389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7B41DA1-6239-4B80-9935-01BAB1DB30D1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844FE0-34F1-4D99-9FC3-1539FEB6D23F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0D0C56-DD55-4BB2-AB07-AEBB5AA957C5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886FD9-F53D-4345-B071-6D9EAB01B93D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3204D5-9B89-4D03-B7CF-789643C426E3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849988-E1DA-43DF-A928-639ED960FAF7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7177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2161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121896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7177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2161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7B2F97B-8B8D-44F7-9582-CE8A54A5AA1D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572872-CE20-4214-8DF4-C5CF56830C24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9A7EEE-9DCA-4F95-8C58-91E9AF483290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13616F-5633-44DD-9C3B-CAB742A9F6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91A72-684F-4EA2-853C-B62BF16D257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486933-B18E-4395-9853-3401F2351A15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976D50-9E10-4794-AE08-9DF9F3E1F7C6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389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CF5455-2EA9-4221-AD60-99F34BCF9A4E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BAABB0-5356-4C9C-8634-8FF25B6CF6FC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C199C1-F61F-475C-9A7F-297159561EA9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16ECBB-B089-4B10-8E54-71CE8294151C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51F462-6139-45DD-8162-DF663F7BE114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AB441C-463C-465D-9A60-1F69B244A19F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37177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62161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/>
          </p:nvPr>
        </p:nvSpPr>
        <p:spPr>
          <a:xfrm>
            <a:off x="121896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6"/>
          <p:cNvSpPr>
            <a:spLocks noGrp="1"/>
          </p:cNvSpPr>
          <p:nvPr>
            <p:ph/>
          </p:nvPr>
        </p:nvSpPr>
        <p:spPr>
          <a:xfrm>
            <a:off x="37177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7"/>
          <p:cNvSpPr>
            <a:spLocks noGrp="1"/>
          </p:cNvSpPr>
          <p:nvPr>
            <p:ph/>
          </p:nvPr>
        </p:nvSpPr>
        <p:spPr>
          <a:xfrm>
            <a:off x="62161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49B864-4E85-4523-B663-64EE6E1C2B33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98F82-B455-4722-9378-04A776FFF72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1C11F-B240-417D-945F-275CA415C962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E028F-3C25-47EC-B77C-6B62DACC0715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70345-7F70-4C15-9C48-7A500B90E4C5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2BCA4-C0EB-48D9-A413-0011B4036683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389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CE2A6-F7E0-4BF8-9A2B-25E32612CD68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BA613-F304-480A-9DD7-0E7DF0E6AFD1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ED4B4-1137-48DB-9A26-66EF90427819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89603-EC20-48A5-9999-940E41C564AC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3E852-708D-41A3-B4F5-47EE16618D19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9F6F0-1CA7-4981-95EF-8F1E9EF5995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389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7177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2161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121896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7177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2161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A38DC-27B3-425D-A21D-02EEE5BFF9E0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DFE240-2335-4AEF-B0D1-8AEF4916377D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C88D69-5194-484E-8290-1CB07665B2CE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6285CD-A1F5-4DC9-B7FC-7FDB5C8BE2DC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AC19F6-2AEF-4C34-AC49-EA9C8841B554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721735-7AF3-4D11-A80D-F82D8AE0F851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389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78562C-C4D9-41AE-B2ED-B922C814CFC6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3DC8FB-9FD0-4CCE-8F30-E0B41088F3FA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E8F5B5-F86D-47F9-8519-A6E2B158373F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42FCA0-AF55-41A4-913B-5DBA241C23B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CF015A-6D78-49EE-BFC5-09535BE1DD47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2B677F-57B2-4996-8F26-E6D0C47CF008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37177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62161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/>
          </p:nvPr>
        </p:nvSpPr>
        <p:spPr>
          <a:xfrm>
            <a:off x="121896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6"/>
          <p:cNvSpPr>
            <a:spLocks noGrp="1"/>
          </p:cNvSpPr>
          <p:nvPr>
            <p:ph/>
          </p:nvPr>
        </p:nvSpPr>
        <p:spPr>
          <a:xfrm>
            <a:off x="37177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7"/>
          <p:cNvSpPr>
            <a:spLocks noGrp="1"/>
          </p:cNvSpPr>
          <p:nvPr>
            <p:ph/>
          </p:nvPr>
        </p:nvSpPr>
        <p:spPr>
          <a:xfrm>
            <a:off x="62161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49FE7B-63C5-4A37-9BBA-158715EAA9F4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DB3538-A913-4430-83CB-E265BA1B577D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A6DA35-2591-4D23-B8A1-5FBB6021AF71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34A1ECD-F163-45C8-BDB3-4D1F59A5CCFD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85BA33-3D72-47C6-BF42-D873529B01D9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5B09EE-ED35-4986-955D-FEC83E41C181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389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3D3452-2172-4701-85E6-8EF3FC99A2B6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F78792-776C-4558-A193-1A976FCF80D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584359E-5996-4FDF-BD91-3B2CAEE21BBA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8F44EF-38F9-4B6B-971A-F43FB266BB4C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0B74E6-2032-4350-9ADC-3246E213739A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E6E1826-0B88-4AFF-989A-990413E435FB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37177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2161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121896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/>
          </p:nvPr>
        </p:nvSpPr>
        <p:spPr>
          <a:xfrm>
            <a:off x="37177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7"/>
          <p:cNvSpPr>
            <a:spLocks noGrp="1"/>
          </p:cNvSpPr>
          <p:nvPr>
            <p:ph/>
          </p:nvPr>
        </p:nvSpPr>
        <p:spPr>
          <a:xfrm>
            <a:off x="62161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215BFC-B4EA-4C5E-9CB0-43ED06C7D41B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AD76D-285E-4133-A89E-26EC24638A5F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650EF-5803-47CE-A656-59ADA9C5DA8E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A004E-B1F8-46C1-9147-B6785232280D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3711A-1056-43BA-B1DC-B2A2917FC965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0CE9B-6AC2-476C-BC38-17438B10E72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389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60588C-92A3-4EC6-B26C-E189058DDE95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87B280-EB1F-4D1B-8602-53C9D131F212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D15595-E709-4458-AF77-A1CE33DC4796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5AC72-4BAA-436F-B14F-1190368D24E5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E12DE-9020-4C02-BA58-E5C0BE0F2BB0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0E8880-770F-440B-9899-9836389EE1EC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7177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2161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121896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7177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2161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6DAF16-129F-49A1-86EF-C6903C5CCC3E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373442E-B99A-4A86-9343-D60EFB67B4D6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3E791FD-A70A-4629-9A6B-DE63693ED698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3099BA1-D1C0-413F-86F4-4979954C1C2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706CCC0-6118-49B7-899B-D02EF6809641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E29069C-E048-4F43-843C-697B4B31B4D7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389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5A3CD30-3BC4-4065-9457-AB0016F92D12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4ABA3A7-822E-4543-8C4C-5EA417134706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C6A37EF-2D81-43C6-A11C-4409AE9646EF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8951959-19C2-4CC0-810C-5AF4EA936987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9CC013C-6279-48D9-B34F-A14EC0F73BE3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D4C8D02-B7D1-4539-9D97-CA53D8FA0AD6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7177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2161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121896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7177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2161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9021CAA-06A6-48C4-9447-AAB2C44FF495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1F24EE-ECCB-451A-BB66-CC47FD0DD82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28A4D7-535A-4FCB-B42B-D66C634461B4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63D6B7-32A7-41CB-8A90-AB9C6F8A09F3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A2003F-0263-4BC0-AAEC-22ABF956F489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CE1362-E6F3-43CA-9AC6-5DF459FBC1C1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389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30DD85-59DE-41D7-ABED-3D782E7CAF29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CAEF2A-9FB3-4FDA-B07B-A39BD8961BA7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3AF612-C4B2-49B5-9C92-B123E19EE4C1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BB163B-DE3C-4E3B-9FD8-705D66B9B848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118EBF-FC6A-44C3-8E5D-2B001CC4A70E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478D64-534D-4058-9E1D-D71B2CB1F33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7177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161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21896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7177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2161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37177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62161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121896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6"/>
          <p:cNvSpPr>
            <a:spLocks noGrp="1"/>
          </p:cNvSpPr>
          <p:nvPr>
            <p:ph/>
          </p:nvPr>
        </p:nvSpPr>
        <p:spPr>
          <a:xfrm>
            <a:off x="37177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7"/>
          <p:cNvSpPr>
            <a:spLocks noGrp="1"/>
          </p:cNvSpPr>
          <p:nvPr>
            <p:ph/>
          </p:nvPr>
        </p:nvSpPr>
        <p:spPr>
          <a:xfrm>
            <a:off x="62161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5EA40C-145A-425D-BAD1-3AB6E298E93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CD44B-A722-4971-B3DB-DBEE3E5042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DD081-FE2C-437E-BA0E-E36A909A156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1EAA2-2213-4D93-8906-2FD72A72094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63442-71D7-4640-B833-0121AF1193E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AFD2F-3671-4C85-A34E-EA4D3C33BC4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C9613-9B98-45FA-ABA7-C9B500B59AA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389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6CDF8-DE8D-4A46-AE0B-5DB11822D26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A972A-D8AE-49BF-81EF-95F677F7331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3C373-7262-4E68-93D9-499573F54A1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9165C-545F-49F0-A4E8-71DAC97C89D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4D98E-572C-47CB-8D85-8B7581D45FB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C289B-3196-4549-8C32-EEE6B38178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389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9298F-2FE0-46A0-84B5-AD366F468A8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7177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161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21896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7177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2161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97634-BFAD-4442-A957-098CC252172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2997B-5B07-4BE8-9044-9071E7089B6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43BBA-A690-444E-8D96-0FF17C5097B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28A47-8E08-4ECD-B85F-D06A5EEA955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2AA48-4F40-48BC-B34C-C0197003472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F4694-1099-43D3-BF0F-45CE261855B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389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C4FFC-3B5B-4093-A6B1-FF5607944D1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6B534-F6A8-4501-84B6-3972AD82169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3E888-86C4-4F38-8679-A0ABBC0434B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C06C8-7081-459F-AE0F-9342503459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6EDFE-BB80-48F4-9162-1B05994F626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833C4-707D-46AF-9B39-22E3F864CBF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8B327-D798-4E30-A74A-5C3B5174E86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7177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161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121896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7177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2161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71382-5A02-48E3-9205-EEA9BB526CD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A339-EF01-4559-8842-0D4D3323CF3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DE1D-E471-4609-A688-3F7ACD65ED4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A32C-65CF-4520-AB35-3110190656A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63DB-6946-45BE-BA63-88E1F8DACCE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EC87-BD76-4726-8439-104B29B64C0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389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0635-61AB-40AE-9E41-2C4642283B5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21F0-B9CC-4072-8808-CEEB508332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8A674-6BA8-496D-B9E9-A1046BEC30D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CA49-5CB0-4D0E-9E2C-954B107DF93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7AB5-75BA-499B-ADAA-A3A420924C5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E23E-1F50-4D87-A61E-077F565AEA0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8E98-911E-4759-A66E-6445D5DA9F4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7177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2161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21896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7177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2161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AB49-8232-476D-9769-0E8D70BEE8D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3EF1A8-E42B-4CE1-87EB-827B97B4C5B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437E60-C321-445F-A853-BD59A47C0DF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D6E60B-06AF-4419-9804-F3A4589BEB1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5C5FA2-FA65-4F2F-B4AA-4960593E00F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A704C2-1FE1-4058-AEEB-CBA32402E7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B86B5-9825-46C0-A436-8D1DCB76AF3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389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AE6C4C-7FF7-4F30-A259-7B7946B56C6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962839-A6D7-48AA-9760-58016E03B64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CB5114-3947-492B-B5A0-D96751599BE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E72E33-815D-447D-AFA5-FCA96455C5E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218960" y="4750560"/>
            <a:ext cx="73897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9C5AF3-F968-479F-A918-E5649C3BE6E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05800" y="281952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21896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005800" y="4750560"/>
            <a:ext cx="360612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DACA68-19A7-45B0-B179-E553F3C3823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7177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216120" y="281952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21896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7177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216120" y="4750560"/>
            <a:ext cx="2379240" cy="17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7E4E79-C54B-4D0A-8F65-774E17F18F1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3733AC-EDEA-4268-BC29-E80D8E06BC9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BEFEFD-8612-4C84-B9C8-C4B3E40868D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47CFC7-DB0D-476D-A338-260BA3CF74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IRB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7c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C3CD-03E0-4DBC-A04A-1248B952DD58}" type="slidenum">
              <a:rPr b="0" lang="en-US" sz="1000" spc="-1" strike="noStrike" baseline="-25000">
                <a:solidFill>
                  <a:srgbClr val="7c6a5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7" descr="IRB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c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6488-A26C-46CC-B2D9-2C26D1D5FC05}" type="slidenum">
              <a:rPr b="0" lang="en-US" sz="1000" spc="-1" strike="noStrike">
                <a:solidFill>
                  <a:srgbClr val="7c6a5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7" descr="IRB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1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c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8161-EF99-4169-A437-BEC7629F1D8C}" type="slidenum">
              <a:rPr b="0" lang="en-US" sz="1000" spc="-1" strike="noStrike">
                <a:solidFill>
                  <a:srgbClr val="7c6a5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17" descr="IRB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1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c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03E1-16B2-4B19-8492-F81466E10F97}" type="slidenum">
              <a:rPr b="0" lang="en-US" sz="1000" spc="-1" strike="noStrike">
                <a:solidFill>
                  <a:srgbClr val="7c6a5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17" descr="IRB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c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0A36-D3F1-4BE5-90B1-8E582A94C203}" type="slidenum">
              <a:rPr b="0" lang="en-US" sz="1000" spc="-1" strike="noStrike">
                <a:solidFill>
                  <a:srgbClr val="7c6a5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17" descr="IRB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sldNum" idx="1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c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6ADA-4249-4028-B4CA-766185278DE0}" type="slidenum">
              <a:rPr b="0" lang="en-US" sz="1000" spc="-1" strike="noStrike">
                <a:solidFill>
                  <a:srgbClr val="7c6a5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17" descr="IRB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Num" idx="1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c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9BAA-4690-4449-B354-6F9569E74BEE}" type="slidenum">
              <a:rPr b="0" lang="en-US" sz="1000" spc="-1" strike="noStrike">
                <a:solidFill>
                  <a:srgbClr val="7c6a5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6" descr="IRB-Cover-ppt"/>
          <p:cNvPicPr/>
          <p:nvPr/>
        </p:nvPicPr>
        <p:blipFill>
          <a:blip r:embed="rId2"/>
          <a:stretch/>
        </p:blipFill>
        <p:spPr>
          <a:xfrm>
            <a:off x="0" y="0"/>
            <a:ext cx="9147240" cy="685944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17" descr="IRB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F215-76DC-4F10-A9F8-B1122DAF788B}" type="slidenum">
              <a: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17" descr="IRB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sldNum" idx="1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9535-B8E4-465E-8064-BA0A7854B5E1}" type="slidenum">
              <a: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17" descr="IRB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sldNum" idx="1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F95A-5868-421C-92DE-E2EBD2C8ACE4}" type="slidenum">
              <a: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7" descr="IRB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E3AE-4C87-4663-9713-150043666B81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Picture 17" descr="IRB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69B1-1748-4E4F-8D3E-29663A294022}" type="slidenum">
              <a: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Picture 17" descr="IRB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C758-D683-4951-90EB-E6F32C050A6C}" type="slidenum">
              <a: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7" descr="IRB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sldNum" idx="2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AE88-5BFF-45F2-B90C-6F955D47253C}" type="slidenum">
              <a: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Picture 17" descr="IRB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68C0-4B27-4281-9464-6F55F872784C}" type="slidenum">
              <a: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Picture 17" descr="IRB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sldNum" idx="2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DD9B-4A9C-4FAB-9265-B08D9E426E8B}" type="slidenum">
              <a: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Picture 17" descr="IRB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sldNum" idx="2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2A92-864F-4262-86FD-4185ADDCA0CD}" type="slidenum">
              <a: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Picture 17" descr="IRB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sldNum" idx="2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1558-B28D-43C7-BBE2-8FD129CCBFEA}" type="slidenum">
              <a: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17" descr="IRB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 type="sldNum" idx="2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90C7-BD90-4E8B-A437-12FEC5A0EB45}" type="slidenum">
              <a: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Picture 1" descr="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 type="sldNum" idx="26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23C9-BF33-4ED5-B817-A49C312A079B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Picture 1" descr="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sldNum" idx="27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AC63-F1E1-4C44-AAED-73265FDC0182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0ABFBA-81E7-4803-8688-226D24B8C8ED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8" name="Picture 1" descr="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 type="sldNum" idx="28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1DE9-2312-475C-88E4-4D6C47B8580A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8" name="Picture 1" descr="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 type="sldNum" idx="29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BF34-E40E-4A78-B567-F3339D128699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8" name="Picture 1" descr="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 type="sldNum" idx="30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631F-5C34-43F1-AFF7-1D8A823F40E4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8" name="Picture 1" descr="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 type="sldNum" idx="31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20DB-710F-4EAA-9921-4FC794E55062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8" name="Picture 1" descr="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 type="sldNum" idx="32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A6DF-203C-4D2A-9EC4-7C25A6164F92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8" name="Picture 1" descr="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 type="sldNum" idx="33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E458-832D-44BD-9955-2EBB4BB28569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8" name="Picture 1" descr="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sldNum" idx="34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AEB9-02D3-45C6-BEB8-0AB57BAA1D10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Picture 1" descr="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sldNum" idx="35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9278-B66C-4AC9-9925-978755A59DB2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Picture 1" descr="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sldNum" idx="36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E2A7-6E80-41F2-AE91-A4C2F45E843E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8" name="Picture 1" descr="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 type="sldNum" idx="37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9270-2E1A-429E-9D72-81C3C35063EC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IRB-Cover-ppt"/>
          <p:cNvPicPr/>
          <p:nvPr/>
        </p:nvPicPr>
        <p:blipFill>
          <a:blip r:embed="rId2"/>
          <a:stretch/>
        </p:blipFill>
        <p:spPr>
          <a:xfrm>
            <a:off x="0" y="0"/>
            <a:ext cx="9147240" cy="6859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8" name="Picture 1" descr="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1218960" y="2819520"/>
            <a:ext cx="73897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 type="sldNum" idx="38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AAA5-709C-4141-AE85-AAE5E3DEC4BB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7" descr="IRB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c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4E7A-962E-4B0C-A27C-6465B143338C}" type="slidenum">
              <a:rPr b="0" lang="en-US" sz="1000" spc="-1" strike="noStrike">
                <a:solidFill>
                  <a:srgbClr val="7c6a5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7" descr="IRB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c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D01D-D453-4499-85ED-DB962F06120F}" type="slidenum">
              <a:rPr b="0" lang="en-US" sz="1000" spc="-1" strike="noStrike">
                <a:solidFill>
                  <a:srgbClr val="7c6a5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7" descr="IRB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c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CBA9-2524-42DE-BED1-6F7A3C3B856E}" type="slidenum">
              <a:rPr b="0" lang="en-US" sz="1000" spc="-1" strike="noStrike">
                <a:solidFill>
                  <a:srgbClr val="7c6a5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7" descr="IRB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c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9CA3-9EF5-47EF-B781-846A52469CF8}" type="slidenum">
              <a:rPr b="0" lang="en-US" sz="1000" spc="-1" strike="noStrike">
                <a:solidFill>
                  <a:srgbClr val="7c6a5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17" descr="IRB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c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CBCB-76A8-4BF2-975D-0694258DE483}" type="slidenum">
              <a:rPr b="0" lang="en-US" sz="1000" spc="-1" strike="noStrike">
                <a:solidFill>
                  <a:srgbClr val="7c6a5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IENCE FAIR – GB PROJECT PRESEN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AY 5 – Lean Green Belt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8D29-C51F-4853-9088-ACAF68A7E60A}" type="slidenum">
              <a:rPr b="0" lang="en-US" sz="1000" spc="-1" strike="noStrike">
                <a:solidFill>
                  <a:srgbClr val="7c6a5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 Black"/>
              </a:rPr>
              <a:t>Eight Non-Value Added Activities / Interruptions to Fl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755640" y="2276280"/>
            <a:ext cx="361944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20200" indent="-520200">
              <a:spcBef>
                <a:spcPts val="601"/>
              </a:spcBef>
              <a:buClr>
                <a:srgbClr val="63a6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fects /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-520200">
              <a:spcBef>
                <a:spcPts val="601"/>
              </a:spcBef>
              <a:buClr>
                <a:srgbClr val="63a6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er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-520200">
              <a:spcBef>
                <a:spcPts val="601"/>
              </a:spcBef>
              <a:buClr>
                <a:srgbClr val="63a6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W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-520200">
              <a:spcBef>
                <a:spcPts val="601"/>
              </a:spcBef>
              <a:buClr>
                <a:srgbClr val="63a6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t fully utilizing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-520200">
              <a:spcBef>
                <a:spcPts val="601"/>
              </a:spcBef>
              <a:buClr>
                <a:srgbClr val="63a6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-520200">
              <a:spcBef>
                <a:spcPts val="601"/>
              </a:spcBef>
              <a:buClr>
                <a:srgbClr val="63a6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-520200">
              <a:spcBef>
                <a:spcPts val="601"/>
              </a:spcBef>
              <a:buClr>
                <a:srgbClr val="63a6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-520200">
              <a:spcBef>
                <a:spcPts val="601"/>
              </a:spcBef>
              <a:buClr>
                <a:srgbClr val="63a6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xcessiv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-520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0200" indent="-520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CCD5-3EB3-46B8-AD06-1A961662F68B}" type="slidenum">
              <a:rPr b="0" lang="en-US" sz="1000" spc="-1" strike="noStrike" baseline="-25000">
                <a:solidFill>
                  <a:srgbClr val="7c6a55"/>
                </a:solidFill>
                <a:latin typeface="Arial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7" name="Group 5"/>
          <p:cNvGrpSpPr/>
          <p:nvPr/>
        </p:nvGrpSpPr>
        <p:grpSpPr>
          <a:xfrm>
            <a:off x="6181560" y="4869000"/>
            <a:ext cx="1872000" cy="1008000"/>
            <a:chOff x="6181560" y="4869000"/>
            <a:chExt cx="1872000" cy="1008000"/>
          </a:xfrm>
        </p:grpSpPr>
        <p:sp>
          <p:nvSpPr>
            <p:cNvPr id="1648" name="Rounded Rectangle 6"/>
            <p:cNvSpPr/>
            <p:nvPr/>
          </p:nvSpPr>
          <p:spPr>
            <a:xfrm>
              <a:off x="6181560" y="4869000"/>
              <a:ext cx="187200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70c0"/>
                  </a:solidFill>
                  <a:latin typeface="Arial"/>
                  <a:ea typeface="Arial"/>
                </a:rPr>
                <a:t>Exercise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70c0"/>
                  </a:solidFill>
                  <a:latin typeface="Arial"/>
                  <a:ea typeface="Arial"/>
                </a:rPr>
                <a:t>Liv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70c0"/>
                  </a:solidFill>
                  <a:latin typeface="Arial"/>
                  <a:ea typeface="Arial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9" name="Picture 2" descr=""/>
            <p:cNvPicPr/>
            <p:nvPr/>
          </p:nvPicPr>
          <p:blipFill>
            <a:blip r:embed="rId1"/>
            <a:srcRect l="0" t="0" r="0" b="1706"/>
            <a:stretch/>
          </p:blipFill>
          <p:spPr>
            <a:xfrm>
              <a:off x="7398720" y="5108400"/>
              <a:ext cx="585720" cy="528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6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6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Group Wor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Divide into groups to review your maps in-dept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Identify mura, muri, mud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Identify VA, BVA, NV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Specify interruptions to flo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Slide Number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1ED4-70FF-4BDE-B419-91CF04F66AF6}" type="slidenum">
              <a:rPr b="0" lang="en-CA" sz="1000" spc="-1" strike="noStrike" baseline="-25000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TAKT Ti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 txBox="1"/>
          <p:nvPr/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751"/>
              </a:spcBef>
              <a:buClr>
                <a:srgbClr val="63a6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The steady “tempo” at which </a:t>
            </a:r>
            <a:r>
              <a:rPr b="1" lang="en-CA" sz="3000" spc="-1" strike="noStrike">
                <a:solidFill>
                  <a:srgbClr val="000000"/>
                </a:solidFill>
                <a:latin typeface="Arial"/>
              </a:rPr>
              <a:t>your process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must deliver completed work to its cli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751"/>
              </a:spcBef>
              <a:buClr>
                <a:srgbClr val="63a6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deliver one unit per X minute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451"/>
              </a:spcBef>
              <a:buClr>
                <a:srgbClr val="63a6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9280" indent="-425160">
              <a:spcBef>
                <a:spcPts val="601"/>
              </a:spcBef>
              <a:buClr>
                <a:srgbClr val="c7d1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st useful and reliable if your incoming demand volume and complexity does not vary significant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6E19-C919-4F32-AC48-9B65A36B80DE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6" name="Picture 6" descr=""/>
          <p:cNvPicPr/>
          <p:nvPr/>
        </p:nvPicPr>
        <p:blipFill>
          <a:blip r:embed="rId1"/>
          <a:stretch/>
        </p:blipFill>
        <p:spPr>
          <a:xfrm>
            <a:off x="1403280" y="5300640"/>
            <a:ext cx="88920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066680" y="53460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TAKT TIME - Formul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A9E7-8EE6-4570-9EF0-FAE9543B9CB2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TextBox 5"/>
          <p:cNvSpPr/>
          <p:nvPr/>
        </p:nvSpPr>
        <p:spPr>
          <a:xfrm>
            <a:off x="1066680" y="1689120"/>
            <a:ext cx="1600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AKT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TextBox 6"/>
          <p:cNvSpPr/>
          <p:nvPr/>
        </p:nvSpPr>
        <p:spPr>
          <a:xfrm>
            <a:off x="2719440" y="1447920"/>
            <a:ext cx="5662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vailable working minutes per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TextBox 7"/>
          <p:cNvSpPr/>
          <p:nvPr/>
        </p:nvSpPr>
        <p:spPr>
          <a:xfrm>
            <a:off x="2719440" y="1981080"/>
            <a:ext cx="5967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# Incoming units of demand per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Straight Connector 9"/>
          <p:cNvSpPr/>
          <p:nvPr/>
        </p:nvSpPr>
        <p:spPr>
          <a:xfrm>
            <a:off x="2719440" y="2050920"/>
            <a:ext cx="5433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Rectangle 13"/>
          <p:cNvSpPr/>
          <p:nvPr/>
        </p:nvSpPr>
        <p:spPr>
          <a:xfrm>
            <a:off x="1936080" y="2836800"/>
            <a:ext cx="336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TextBox 14"/>
          <p:cNvSpPr/>
          <p:nvPr/>
        </p:nvSpPr>
        <p:spPr>
          <a:xfrm>
            <a:off x="2743200" y="2606760"/>
            <a:ext cx="5662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60 minutes per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TextBox 15"/>
          <p:cNvSpPr/>
          <p:nvPr/>
        </p:nvSpPr>
        <p:spPr>
          <a:xfrm>
            <a:off x="2743200" y="3124080"/>
            <a:ext cx="5967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0 incoming applications per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Straight Connector 16"/>
          <p:cNvSpPr/>
          <p:nvPr/>
        </p:nvSpPr>
        <p:spPr>
          <a:xfrm>
            <a:off x="2743200" y="3200400"/>
            <a:ext cx="5433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17"/>
          <p:cNvSpPr/>
          <p:nvPr/>
        </p:nvSpPr>
        <p:spPr>
          <a:xfrm>
            <a:off x="1994760" y="4079880"/>
            <a:ext cx="336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TextBox 18"/>
          <p:cNvSpPr/>
          <p:nvPr/>
        </p:nvSpPr>
        <p:spPr>
          <a:xfrm>
            <a:off x="266760" y="3733920"/>
            <a:ext cx="16002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Our process must produce at a rat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TextBox 19"/>
          <p:cNvSpPr/>
          <p:nvPr/>
        </p:nvSpPr>
        <p:spPr>
          <a:xfrm>
            <a:off x="2743200" y="3886200"/>
            <a:ext cx="5967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One completed application each </a:t>
            </a:r>
            <a:r>
              <a:rPr b="1" lang="en-CA" sz="3600" spc="-1" strike="noStrike" u="sng" baseline="-25000">
                <a:solidFill>
                  <a:srgbClr val="ff0000"/>
                </a:solidFill>
                <a:uFillTx/>
                <a:latin typeface="Arial"/>
                <a:ea typeface="Arial"/>
              </a:rPr>
              <a:t>18</a:t>
            </a:r>
            <a:r>
              <a:rPr b="1" lang="en-CA" sz="36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 minute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TextBox 20"/>
          <p:cNvSpPr/>
          <p:nvPr/>
        </p:nvSpPr>
        <p:spPr>
          <a:xfrm>
            <a:off x="2778120" y="4869000"/>
            <a:ext cx="5965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…</a:t>
            </a:r>
            <a:r>
              <a:rPr b="1" lang="en-CA" sz="36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to keep up with demand and avoi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creating a backlo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Bottleneck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 txBox="1"/>
          <p:nvPr/>
        </p:nvSpPr>
        <p:spPr>
          <a:xfrm>
            <a:off x="324000" y="2349000"/>
            <a:ext cx="5333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63a6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63a6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Volume demand on a task &gt; capacity = interrupts f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63a6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ventory piling up before the bottleneck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63a6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re were the bottlenecks in the our live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63a6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96A8-D9FB-485A-8D16-90D5BC0CB6AA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4" name="Group 5"/>
          <p:cNvGrpSpPr/>
          <p:nvPr/>
        </p:nvGrpSpPr>
        <p:grpSpPr>
          <a:xfrm>
            <a:off x="6181560" y="4869000"/>
            <a:ext cx="1872000" cy="1008000"/>
            <a:chOff x="6181560" y="4869000"/>
            <a:chExt cx="1872000" cy="1008000"/>
          </a:xfrm>
        </p:grpSpPr>
        <p:sp>
          <p:nvSpPr>
            <p:cNvPr id="1675" name="Rounded Rectangle 6"/>
            <p:cNvSpPr/>
            <p:nvPr/>
          </p:nvSpPr>
          <p:spPr>
            <a:xfrm>
              <a:off x="6181560" y="4869000"/>
              <a:ext cx="187200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70c0"/>
                  </a:solidFill>
                  <a:latin typeface="Arial"/>
                  <a:ea typeface="Arial"/>
                </a:rPr>
                <a:t>Exercise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70c0"/>
                  </a:solidFill>
                  <a:latin typeface="Arial"/>
                  <a:ea typeface="Arial"/>
                </a:rPr>
                <a:t>Liv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70c0"/>
                  </a:solidFill>
                  <a:latin typeface="Arial"/>
                  <a:ea typeface="Arial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6" name="Picture 2" descr=""/>
            <p:cNvPicPr/>
            <p:nvPr/>
          </p:nvPicPr>
          <p:blipFill>
            <a:blip r:embed="rId1"/>
            <a:srcRect l="0" t="0" r="0" b="1706"/>
            <a:stretch/>
          </p:blipFill>
          <p:spPr>
            <a:xfrm>
              <a:off x="7398720" y="5108400"/>
              <a:ext cx="585720" cy="528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1131840" y="33300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Finding Bottleneck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8" name="Content Placeholder 4" descr=""/>
          <p:cNvPicPr/>
          <p:nvPr/>
        </p:nvPicPr>
        <p:blipFill>
          <a:blip r:embed="rId1"/>
          <a:stretch/>
        </p:blipFill>
        <p:spPr>
          <a:xfrm>
            <a:off x="177840" y="2006640"/>
            <a:ext cx="8788320" cy="4749840"/>
          </a:xfrm>
          <a:prstGeom prst="rect">
            <a:avLst/>
          </a:prstGeom>
          <a:ln w="0">
            <a:noFill/>
          </a:ln>
        </p:spPr>
      </p:pic>
      <p:sp>
        <p:nvSpPr>
          <p:cNvPr id="1679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8996-A216-4188-969E-A3A38B317A93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0" name="Group 12"/>
          <p:cNvGrpSpPr/>
          <p:nvPr/>
        </p:nvGrpSpPr>
        <p:grpSpPr>
          <a:xfrm>
            <a:off x="3417480" y="1254240"/>
            <a:ext cx="5269320" cy="1981440"/>
            <a:chOff x="3417480" y="1254240"/>
            <a:chExt cx="5269320" cy="1981440"/>
          </a:xfrm>
        </p:grpSpPr>
        <p:cxnSp>
          <p:nvCxnSpPr>
            <p:cNvPr id="1681" name="Straight Arrow Connector 8"/>
            <p:cNvCxnSpPr/>
            <p:nvPr/>
          </p:nvCxnSpPr>
          <p:spPr>
            <a:xfrm flipH="1">
              <a:off x="3417480" y="1940040"/>
              <a:ext cx="2820240" cy="12960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682" name="Straight Arrow Connector 10"/>
            <p:cNvCxnSpPr/>
            <p:nvPr/>
          </p:nvCxnSpPr>
          <p:spPr>
            <a:xfrm flipH="1">
              <a:off x="5855760" y="1940040"/>
              <a:ext cx="381600" cy="12960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683" name="TextBox 11"/>
            <p:cNvSpPr/>
            <p:nvPr/>
          </p:nvSpPr>
          <p:spPr>
            <a:xfrm>
              <a:off x="6390000" y="1254240"/>
              <a:ext cx="229680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Cycle Time &gt; TAKT Time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BOTTLENECK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Level Load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5" name="Content Placeholder 4" descr=""/>
          <p:cNvPicPr/>
          <p:nvPr/>
        </p:nvPicPr>
        <p:blipFill>
          <a:blip r:embed="rId1"/>
          <a:stretch/>
        </p:blipFill>
        <p:spPr>
          <a:xfrm>
            <a:off x="177840" y="2006640"/>
            <a:ext cx="8788320" cy="4749840"/>
          </a:xfrm>
          <a:prstGeom prst="rect">
            <a:avLst/>
          </a:prstGeom>
          <a:ln w="0">
            <a:noFill/>
          </a:ln>
        </p:spPr>
      </p:pic>
      <p:sp>
        <p:nvSpPr>
          <p:cNvPr id="1686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2AD6-C803-494C-83EC-E9B920413670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7" name="Group 12"/>
          <p:cNvGrpSpPr/>
          <p:nvPr/>
        </p:nvGrpSpPr>
        <p:grpSpPr>
          <a:xfrm>
            <a:off x="3417480" y="1254240"/>
            <a:ext cx="5269320" cy="2036520"/>
            <a:chOff x="3417480" y="1254240"/>
            <a:chExt cx="5269320" cy="2036520"/>
          </a:xfrm>
        </p:grpSpPr>
        <p:cxnSp>
          <p:nvCxnSpPr>
            <p:cNvPr id="1688" name="Straight Arrow Connector 8"/>
            <p:cNvCxnSpPr/>
            <p:nvPr/>
          </p:nvCxnSpPr>
          <p:spPr>
            <a:xfrm flipH="1">
              <a:off x="3417480" y="1940040"/>
              <a:ext cx="2820240" cy="1296000"/>
            </a:xfrm>
            <a:prstGeom prst="straightConnector1">
              <a:avLst/>
            </a:prstGeom>
            <a:ln w="38160">
              <a:solidFill>
                <a:srgbClr val="bbe0e3"/>
              </a:solidFill>
              <a:miter/>
              <a:tailEnd len="med" type="arrow" w="med"/>
            </a:ln>
          </p:spPr>
        </p:cxnSp>
        <p:cxnSp>
          <p:nvCxnSpPr>
            <p:cNvPr id="1689" name="Straight Arrow Connector 10"/>
            <p:cNvCxnSpPr/>
            <p:nvPr/>
          </p:nvCxnSpPr>
          <p:spPr>
            <a:xfrm flipH="1">
              <a:off x="5855760" y="1940040"/>
              <a:ext cx="381600" cy="1296000"/>
            </a:xfrm>
            <a:prstGeom prst="straightConnector1">
              <a:avLst/>
            </a:prstGeom>
            <a:ln w="38160">
              <a:solidFill>
                <a:srgbClr val="bbe0e3"/>
              </a:solidFill>
              <a:miter/>
              <a:tailEnd len="med" type="arrow" w="med"/>
            </a:ln>
          </p:spPr>
        </p:cxnSp>
        <p:sp>
          <p:nvSpPr>
            <p:cNvPr id="1690" name="TextBox 11"/>
            <p:cNvSpPr/>
            <p:nvPr/>
          </p:nvSpPr>
          <p:spPr>
            <a:xfrm>
              <a:off x="6390000" y="1254240"/>
              <a:ext cx="2296800" cy="20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How can you re-arrange the work so that all CT’s are below TAKT Time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BATCH VS ONE-PIECE FLO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ata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C58F-F63F-41B3-A7BD-1F8694BC61A9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Large Batches (and inventory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Slow down the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Video on one-piece fl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8CEA-F875-4116-8D3E-D3F5E5855786}" type="slidenum">
              <a:rPr b="0" lang="en-US" sz="1000" spc="-1" strike="noStrike">
                <a:solidFill>
                  <a:srgbClr val="7c6a5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Push vs Pull (in Manufacturing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 txBox="1"/>
          <p:nvPr/>
        </p:nvSpPr>
        <p:spPr>
          <a:xfrm>
            <a:off x="229680" y="1735200"/>
            <a:ext cx="5280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 u="sng">
                <a:solidFill>
                  <a:srgbClr val="000000"/>
                </a:solidFill>
                <a:uFillTx/>
                <a:latin typeface="Arial"/>
              </a:rPr>
              <a:t>Push: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 I produce a pile of work in anticipation of customer dema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 u="sng">
                <a:solidFill>
                  <a:srgbClr val="000000"/>
                </a:solidFill>
                <a:uFillTx/>
                <a:latin typeface="Arial"/>
              </a:rPr>
              <a:t>Pull: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 I produce a piece of work when and only when the customer orders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9A11-7489-4BB2-88F5-B11B8A6329C0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0" name="Picture 4" descr="http://www.weightknowmore.com/wp-content/uploads/2013/04/BUFFETphoto.jpg"/>
          <p:cNvPicPr/>
          <p:nvPr/>
        </p:nvPicPr>
        <p:blipFill>
          <a:blip r:embed="rId1"/>
          <a:stretch/>
        </p:blipFill>
        <p:spPr>
          <a:xfrm>
            <a:off x="5478480" y="1557360"/>
            <a:ext cx="3240000" cy="2158920"/>
          </a:xfrm>
          <a:prstGeom prst="rect">
            <a:avLst/>
          </a:prstGeom>
          <a:ln w="0">
            <a:noFill/>
          </a:ln>
        </p:spPr>
      </p:pic>
      <p:pic>
        <p:nvPicPr>
          <p:cNvPr id="1701" name="Picture 6" descr="http://i2.wp.com/www.hangthebankers.com/wp-content/uploads/2013/03/Subway1.jpg?fit=586%2C423"/>
          <p:cNvPicPr/>
          <p:nvPr/>
        </p:nvPicPr>
        <p:blipFill>
          <a:blip r:embed="rId2"/>
          <a:stretch/>
        </p:blipFill>
        <p:spPr>
          <a:xfrm>
            <a:off x="5491080" y="4049640"/>
            <a:ext cx="312912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Presentation of your GB Project (so far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Current State M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What did the data tell you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Observations on the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Issues, things you learn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DA12-D53A-4B27-B4C7-5DAECD811F28}" type="slidenum">
              <a:rPr b="0" lang="en-US" sz="1000" spc="-1" strike="noStrike">
                <a:solidFill>
                  <a:srgbClr val="7c6a5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Push vs Pull (in Service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 txBox="1"/>
          <p:nvPr/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 u="sng">
                <a:solidFill>
                  <a:srgbClr val="000000"/>
                </a:solidFill>
                <a:uFillTx/>
                <a:latin typeface="Arial"/>
              </a:rPr>
              <a:t>Push: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 I pass a piece of work to the next step when </a:t>
            </a:r>
            <a:r>
              <a:rPr b="0" lang="en-CA" sz="3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am read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 u="sng">
                <a:solidFill>
                  <a:srgbClr val="000000"/>
                </a:solidFill>
                <a:uFillTx/>
                <a:latin typeface="Arial"/>
              </a:rPr>
              <a:t>Pull: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 The next step is available when the file </a:t>
            </a:r>
            <a:r>
              <a:rPr b="0" lang="en-CA" sz="3000" spc="-1" strike="noStrike" u="sng">
                <a:solidFill>
                  <a:srgbClr val="000000"/>
                </a:solidFill>
                <a:uFillTx/>
                <a:latin typeface="Arial"/>
              </a:rPr>
              <a:t>needs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CC85-2B12-4088-9354-82DDDC528A06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5" name="Picture 2" descr=""/>
          <p:cNvPicPr/>
          <p:nvPr/>
        </p:nvPicPr>
        <p:blipFill>
          <a:blip r:embed="rId1"/>
          <a:stretch/>
        </p:blipFill>
        <p:spPr>
          <a:xfrm>
            <a:off x="480960" y="387360"/>
            <a:ext cx="7993080" cy="5994360"/>
          </a:xfrm>
          <a:prstGeom prst="rect">
            <a:avLst/>
          </a:prstGeom>
          <a:ln w="0">
            <a:noFill/>
          </a:ln>
        </p:spPr>
      </p:pic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68360" y="387000"/>
            <a:ext cx="8005680" cy="68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Kanba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 txBox="1"/>
          <p:nvPr/>
        </p:nvSpPr>
        <p:spPr>
          <a:xfrm>
            <a:off x="487080" y="5145120"/>
            <a:ext cx="7986600" cy="122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Arial"/>
              </a:rPr>
              <a:t>A “pull” signal to start the next piece of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6D19-EB60-4EEA-9481-3A50E41830D0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Layout Influences Flow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 txBox="1"/>
          <p:nvPr/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51"/>
              </a:spcBef>
              <a:buClr>
                <a:srgbClr val="63a6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63a6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What behaviours does layout creat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63a6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D0C1-1C89-40D1-969E-DB7AD721752A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Spaghetti Diagra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9EC6-0A66-4B5D-BF7C-2E2568D5C046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4" name="Picture 2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770436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DATA ANALYSI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alk through of Data 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5680-49B0-4BB3-89DD-B7F6ED247580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Analyze Data Shee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Slide Number Placeholder 2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60D3-3DD4-42E4-B03F-4ED16BB24778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0" name=""/>
          <p:cNvGraphicFramePr/>
          <p:nvPr/>
        </p:nvGraphicFramePr>
        <p:xfrm>
          <a:off x="468360" y="1341360"/>
          <a:ext cx="7920000" cy="5089680"/>
        </p:xfrm>
        <a:graphic>
          <a:graphicData uri="http://schemas.openxmlformats.org/drawingml/2006/table">
            <a:tbl>
              <a:tblPr/>
              <a:tblGrid>
                <a:gridCol w="1830240"/>
                <a:gridCol w="1022400"/>
                <a:gridCol w="1022400"/>
                <a:gridCol w="1033560"/>
                <a:gridCol w="1035000"/>
                <a:gridCol w="673200"/>
                <a:gridCol w="639720"/>
                <a:gridCol w="663480"/>
              </a:tblGrid>
              <a:tr h="792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 of  Process Ta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on Tit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oming Pieces/wk (P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ing or Touch Time PT mi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ycle or Task-to-Task Time CT mi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In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&amp;A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tch (B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e list of renew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t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26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 list to Records  (cc Admi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t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batch -3 mon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 list to Ad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yst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batch -3 mon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s (YA) sends files to GIT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rds Cle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batch- 3 mon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/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 prints l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batch -3 mon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27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 files and check them on l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per mon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6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ify Analyst 1 that files are recei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per mon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00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 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t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 into system to print and sign lett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t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per mon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pSp>
        <p:nvGrpSpPr>
          <p:cNvPr id="1721" name="Group 12"/>
          <p:cNvGrpSpPr/>
          <p:nvPr/>
        </p:nvGrpSpPr>
        <p:grpSpPr>
          <a:xfrm>
            <a:off x="878040" y="2205000"/>
            <a:ext cx="6863040" cy="1800360"/>
            <a:chOff x="878040" y="2205000"/>
            <a:chExt cx="6863040" cy="1800360"/>
          </a:xfrm>
        </p:grpSpPr>
        <p:sp>
          <p:nvSpPr>
            <p:cNvPr id="1722" name="Oval 5"/>
            <p:cNvSpPr/>
            <p:nvPr/>
          </p:nvSpPr>
          <p:spPr>
            <a:xfrm>
              <a:off x="878040" y="2205000"/>
              <a:ext cx="1584360" cy="1008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 baseline="-25000">
                  <a:solidFill>
                    <a:srgbClr val="ffffff"/>
                  </a:solidFill>
                  <a:latin typeface="Arial"/>
                  <a:ea typeface="Geneva"/>
                </a:rPr>
                <a:t>BATC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23" name="Straight Arrow Connector 7"/>
            <p:cNvCxnSpPr/>
            <p:nvPr/>
          </p:nvCxnSpPr>
          <p:spPr>
            <a:xfrm flipV="1">
              <a:off x="2462400" y="2420280"/>
              <a:ext cx="886320" cy="289440"/>
            </a:xfrm>
            <a:prstGeom prst="straightConnector1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4" name="Straight Arrow Connector 8"/>
            <p:cNvCxnSpPr>
              <a:stCxn id="1722" idx="6"/>
            </p:cNvCxnSpPr>
            <p:nvPr/>
          </p:nvCxnSpPr>
          <p:spPr>
            <a:xfrm>
              <a:off x="2462400" y="2709360"/>
              <a:ext cx="5279040" cy="1296360"/>
            </a:xfrm>
            <a:prstGeom prst="straightConnector1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25" name="Group 19"/>
          <p:cNvGrpSpPr/>
          <p:nvPr/>
        </p:nvGrpSpPr>
        <p:grpSpPr>
          <a:xfrm>
            <a:off x="843120" y="2420280"/>
            <a:ext cx="4665960" cy="2123640"/>
            <a:chOff x="843120" y="2420280"/>
            <a:chExt cx="4665960" cy="2123640"/>
          </a:xfrm>
        </p:grpSpPr>
        <p:sp>
          <p:nvSpPr>
            <p:cNvPr id="1726" name="Oval 14"/>
            <p:cNvSpPr/>
            <p:nvPr/>
          </p:nvSpPr>
          <p:spPr>
            <a:xfrm>
              <a:off x="843120" y="3535560"/>
              <a:ext cx="1584360" cy="10080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 baseline="-25000">
                  <a:solidFill>
                    <a:srgbClr val="ffffff"/>
                  </a:solidFill>
                  <a:latin typeface="Arial"/>
                  <a:ea typeface="Geneva"/>
                </a:rPr>
                <a:t>HIG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 baseline="-25000">
                  <a:solidFill>
                    <a:srgbClr val="ffffff"/>
                  </a:solidFill>
                  <a:latin typeface="Arial"/>
                  <a:ea typeface="Geneva"/>
                </a:rPr>
                <a:t>C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27" name="Straight Arrow Connector 15"/>
            <p:cNvCxnSpPr/>
            <p:nvPr/>
          </p:nvCxnSpPr>
          <p:spPr>
            <a:xfrm flipV="1">
              <a:off x="2471760" y="2420280"/>
              <a:ext cx="3037680" cy="1585080"/>
            </a:xfrm>
            <a:prstGeom prst="straightConnector1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8" name="Straight Arrow Connector 16"/>
            <p:cNvCxnSpPr>
              <a:stCxn id="1726" idx="6"/>
            </p:cNvCxnSpPr>
            <p:nvPr/>
          </p:nvCxnSpPr>
          <p:spPr>
            <a:xfrm>
              <a:off x="2427480" y="4038840"/>
              <a:ext cx="2937600" cy="505440"/>
            </a:xfrm>
            <a:prstGeom prst="straightConnector1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29" name="Group 28"/>
          <p:cNvGrpSpPr/>
          <p:nvPr/>
        </p:nvGrpSpPr>
        <p:grpSpPr>
          <a:xfrm>
            <a:off x="843120" y="5013360"/>
            <a:ext cx="6334200" cy="1008000"/>
            <a:chOff x="843120" y="5013360"/>
            <a:chExt cx="6334200" cy="1008000"/>
          </a:xfrm>
        </p:grpSpPr>
        <p:sp>
          <p:nvSpPr>
            <p:cNvPr id="1730" name="Oval 22"/>
            <p:cNvSpPr/>
            <p:nvPr/>
          </p:nvSpPr>
          <p:spPr>
            <a:xfrm>
              <a:off x="843120" y="5013360"/>
              <a:ext cx="1584000" cy="1008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 baseline="-25000">
                  <a:solidFill>
                    <a:srgbClr val="ffffff"/>
                  </a:solidFill>
                  <a:latin typeface="Arial"/>
                  <a:ea typeface="Geneva"/>
                </a:rPr>
                <a:t>LOW C&amp;A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1" name="Straight Arrow Connector 23"/>
            <p:cNvCxnSpPr>
              <a:stCxn id="1730" idx="6"/>
            </p:cNvCxnSpPr>
            <p:nvPr/>
          </p:nvCxnSpPr>
          <p:spPr>
            <a:xfrm>
              <a:off x="2427120" y="5517720"/>
              <a:ext cx="4750560" cy="1080"/>
            </a:xfrm>
            <a:prstGeom prst="straightConnector1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orrection Dem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108000" y="1413000"/>
            <a:ext cx="4092480" cy="24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700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ypically 10-40% of workload does not add value, but consumes staff capacity an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y solutions to eliminate this preventable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247E-07F3-4A6D-8DEA-B747463FE86B}" type="slidenum">
              <a:rPr b="0" lang="en-US" sz="1000" spc="-1" strike="noStrike">
                <a:solidFill>
                  <a:srgbClr val="7c6a55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5" name="Chart 3" descr=""/>
          <p:cNvPicPr/>
          <p:nvPr/>
        </p:nvPicPr>
        <p:blipFill>
          <a:blip r:embed="rId1"/>
          <a:stretch/>
        </p:blipFill>
        <p:spPr>
          <a:xfrm>
            <a:off x="4257720" y="1668600"/>
            <a:ext cx="4349880" cy="3160440"/>
          </a:xfrm>
          <a:prstGeom prst="rect">
            <a:avLst/>
          </a:prstGeom>
          <a:ln w="0">
            <a:noFill/>
          </a:ln>
        </p:spPr>
      </p:pic>
      <p:sp>
        <p:nvSpPr>
          <p:cNvPr id="1736" name="TextBox 4"/>
          <p:cNvSpPr/>
          <p:nvPr/>
        </p:nvSpPr>
        <p:spPr>
          <a:xfrm>
            <a:off x="4081680" y="5043600"/>
            <a:ext cx="44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…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ree up capacity to do “value”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Title 5"/>
          <p:cNvSpPr/>
          <p:nvPr/>
        </p:nvSpPr>
        <p:spPr>
          <a:xfrm>
            <a:off x="558720" y="1197000"/>
            <a:ext cx="843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orrection Demand” drains capacity but does not ad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8" name=""/>
          <p:cNvGraphicFramePr/>
          <p:nvPr/>
        </p:nvGraphicFramePr>
        <p:xfrm>
          <a:off x="717480" y="2367000"/>
          <a:ext cx="7702560" cy="4014720"/>
        </p:xfrm>
        <a:graphic>
          <a:graphicData uri="http://schemas.openxmlformats.org/drawingml/2006/table">
            <a:tbl>
              <a:tblPr/>
              <a:tblGrid>
                <a:gridCol w="3851280"/>
                <a:gridCol w="3851280"/>
              </a:tblGrid>
              <a:tr h="539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hing not d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, information missing – go find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hing not done r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information, misplaced info – redo 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hing is not cl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clear instructions, requirements – go get clar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necessary task or st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necessary approvals, meeting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38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hing takes too l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sing progress, answe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739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E052-3135-4C9E-BC4B-BE069CA81230}" type="slidenum">
              <a:rPr b="0" lang="en-US" sz="1000" spc="-1" strike="noStrike">
                <a:solidFill>
                  <a:srgbClr val="7c6a55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228600" rIns="457200" tIns="228600" bIns="4572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OT CAUSE ANALYS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ymptom or Root Ca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B601-65CB-4797-8D88-14B29D4E820F}" type="slidenum">
              <a:rPr b="0" lang="en-US" sz="1000" spc="-1" strike="noStrike">
                <a:solidFill>
                  <a:srgbClr val="7c6a55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Five Why’s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 txBox="1"/>
          <p:nvPr/>
        </p:nvSpPr>
        <p:spPr>
          <a:xfrm>
            <a:off x="468360" y="263700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Identify the root cause of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How: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sk “why” the problem happens, and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rite down the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Do this five times in success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1A00-D11C-4135-A520-0D1EF0CA6263}" type="slidenum">
              <a:rPr b="0" lang="en-US" sz="1000" spc="-1" strike="noStrike">
                <a:solidFill>
                  <a:srgbClr val="7c6a55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REVIEW – DEFINE, MEASURE, ANALYZ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D697-4113-4114-9E3A-5126099D1B7D}" type="slidenum">
              <a:rPr b="0" lang="en-US" sz="1000" spc="-1" strike="noStrike">
                <a:solidFill>
                  <a:srgbClr val="7c6a5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"/>
          <p:cNvSpPr txBox="1"/>
          <p:nvPr/>
        </p:nvSpPr>
        <p:spPr>
          <a:xfrm>
            <a:off x="456840" y="6091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25600" indent="-525600">
              <a:lnSpc>
                <a:spcPct val="80000"/>
              </a:lnSpc>
              <a:spcBef>
                <a:spcPts val="60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roblem:  The Washington Monument was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disinteg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-420480">
              <a:lnSpc>
                <a:spcPct val="80000"/>
              </a:lnSpc>
              <a:spcBef>
                <a:spcPts val="60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-420480">
              <a:lnSpc>
                <a:spcPct val="80000"/>
              </a:lnSpc>
              <a:spcBef>
                <a:spcPts val="4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12080" indent="-350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Because of harsh cleaning chemic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-420480">
              <a:lnSpc>
                <a:spcPct val="80000"/>
              </a:lnSpc>
              <a:spcBef>
                <a:spcPts val="4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y were harsh cleaning chemicals us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12080" indent="-350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o clean pigeon p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-420480">
              <a:lnSpc>
                <a:spcPct val="80000"/>
              </a:lnSpc>
              <a:spcBef>
                <a:spcPts val="4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y was there so much pigeon poo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12080" indent="-350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oo many pige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-420480">
              <a:lnSpc>
                <a:spcPct val="80000"/>
              </a:lnSpc>
              <a:spcBef>
                <a:spcPts val="4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y so many pige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12080" indent="-350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y eat spiders and lots of spiders at the mon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-420480">
              <a:lnSpc>
                <a:spcPct val="80000"/>
              </a:lnSpc>
              <a:spcBef>
                <a:spcPts val="4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y so many spide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12080" indent="-350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y eat gnats, and lots of gnats at the mon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-420480">
              <a:lnSpc>
                <a:spcPct val="80000"/>
              </a:lnSpc>
              <a:spcBef>
                <a:spcPts val="4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y so many gna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12080" indent="-350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y are attracted to light at dawn and dusk, and there is a lot of light on the monument at dawn and dus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12080" indent="-3502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25600" indent="-525600">
              <a:lnSpc>
                <a:spcPct val="80000"/>
              </a:lnSpc>
              <a:spcBef>
                <a:spcPts val="400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5600" indent="-525600">
              <a:lnSpc>
                <a:spcPct val="80000"/>
              </a:lnSpc>
              <a:spcBef>
                <a:spcPts val="400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Root cause: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Lighted monument at du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5600" indent="-525600">
              <a:lnSpc>
                <a:spcPct val="80000"/>
              </a:lnSpc>
              <a:spcBef>
                <a:spcPts val="400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Solution: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Turn off lights during dawn and du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Rectangle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78E6-C608-4A6D-8559-4E0A05C5D86E}" type="slidenum">
              <a:rPr b="0" lang="en-C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8" name="Picture 5" descr="washington monument"/>
          <p:cNvPicPr/>
          <p:nvPr/>
        </p:nvPicPr>
        <p:blipFill>
          <a:blip r:embed="rId1"/>
          <a:stretch/>
        </p:blipFill>
        <p:spPr>
          <a:xfrm>
            <a:off x="6834240" y="1023840"/>
            <a:ext cx="2492280" cy="2121120"/>
          </a:xfrm>
          <a:prstGeom prst="rect">
            <a:avLst/>
          </a:prstGeom>
          <a:ln w="0">
            <a:noFill/>
          </a:ln>
        </p:spPr>
      </p:pic>
      <p:sp>
        <p:nvSpPr>
          <p:cNvPr id="1749" name="Explosion 1 1"/>
          <p:cNvSpPr/>
          <p:nvPr/>
        </p:nvSpPr>
        <p:spPr>
          <a:xfrm>
            <a:off x="6989760" y="4648320"/>
            <a:ext cx="1847880" cy="1371600"/>
          </a:xfrm>
          <a:prstGeom prst="irregularSeal1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0000"/>
                </a:solidFill>
                <a:latin typeface="Aharoni"/>
                <a:ea typeface="Aharoni"/>
              </a:rPr>
              <a:t>PROBLEM SOLV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7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7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7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7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7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7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7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7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74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750" name="AutoShape 84"/>
          <p:cNvCxnSpPr/>
          <p:nvPr/>
        </p:nvCxnSpPr>
        <p:spPr>
          <a:xfrm>
            <a:off x="1103400" y="1768320"/>
            <a:ext cx="1658160" cy="21837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Rectangle 77"/>
          <p:cNvSpPr/>
          <p:nvPr/>
        </p:nvSpPr>
        <p:spPr>
          <a:xfrm>
            <a:off x="363600" y="1341360"/>
            <a:ext cx="1478880" cy="366840"/>
          </a:xfrm>
          <a:prstGeom prst="rect">
            <a:avLst/>
          </a:prstGeom>
          <a:solidFill>
            <a:srgbClr val="00b0f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2" name="AutoShape 85"/>
          <p:cNvCxnSpPr/>
          <p:nvPr/>
        </p:nvCxnSpPr>
        <p:spPr>
          <a:xfrm flipV="1">
            <a:off x="1241280" y="3931920"/>
            <a:ext cx="1170720" cy="2069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3" name="Rectangle 78"/>
          <p:cNvSpPr/>
          <p:nvPr/>
        </p:nvSpPr>
        <p:spPr>
          <a:xfrm>
            <a:off x="251640" y="6031080"/>
            <a:ext cx="1471320" cy="366840"/>
          </a:xfrm>
          <a:prstGeom prst="rect">
            <a:avLst/>
          </a:prstGeom>
          <a:solidFill>
            <a:srgbClr val="00b0f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INFO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Text Box 95"/>
          <p:cNvSpPr/>
          <p:nvPr/>
        </p:nvSpPr>
        <p:spPr>
          <a:xfrm>
            <a:off x="395280" y="2798640"/>
            <a:ext cx="10652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7c6a55"/>
                </a:solidFill>
                <a:latin typeface="Arial"/>
                <a:ea typeface="Arial"/>
              </a:rPr>
              <a:t>File lateness not tra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Text Box 95"/>
          <p:cNvSpPr/>
          <p:nvPr/>
        </p:nvSpPr>
        <p:spPr>
          <a:xfrm>
            <a:off x="171360" y="1989000"/>
            <a:ext cx="10652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7c6a55"/>
                </a:solidFill>
                <a:latin typeface="Arial"/>
                <a:ea typeface="Arial"/>
              </a:rPr>
              <a:t>Volume, not speed meas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Text Box 95"/>
          <p:cNvSpPr/>
          <p:nvPr/>
        </p:nvSpPr>
        <p:spPr>
          <a:xfrm>
            <a:off x="2179800" y="1803240"/>
            <a:ext cx="106488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7c6a55"/>
                </a:solidFill>
                <a:latin typeface="Arial"/>
                <a:ea typeface="Arial"/>
              </a:rPr>
              <a:t>File work seen a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Text Box 83"/>
          <p:cNvSpPr/>
          <p:nvPr/>
        </p:nvSpPr>
        <p:spPr>
          <a:xfrm>
            <a:off x="5086440" y="3205080"/>
            <a:ext cx="163332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7c6a55"/>
                </a:solidFill>
                <a:latin typeface="Arial"/>
                <a:ea typeface="Arial"/>
              </a:rPr>
              <a:t>Management does not get involved in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Line 132"/>
          <p:cNvSpPr/>
          <p:nvPr/>
        </p:nvSpPr>
        <p:spPr>
          <a:xfrm flipH="1">
            <a:off x="4149360" y="2747880"/>
            <a:ext cx="390600" cy="119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01"/>
          <p:cNvSpPr/>
          <p:nvPr/>
        </p:nvSpPr>
        <p:spPr>
          <a:xfrm>
            <a:off x="987480" y="5345280"/>
            <a:ext cx="574560" cy="136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Text Box 110"/>
          <p:cNvSpPr/>
          <p:nvPr/>
        </p:nvSpPr>
        <p:spPr>
          <a:xfrm>
            <a:off x="4197240" y="4133880"/>
            <a:ext cx="105120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7c6a55"/>
                </a:solidFill>
                <a:latin typeface="Arial"/>
                <a:ea typeface="Arial"/>
              </a:rPr>
              <a:t>Database doesn’t track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Text Box 95"/>
          <p:cNvSpPr/>
          <p:nvPr/>
        </p:nvSpPr>
        <p:spPr>
          <a:xfrm>
            <a:off x="4500720" y="2602080"/>
            <a:ext cx="13935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7c6a55"/>
                </a:solidFill>
                <a:latin typeface="Arial"/>
                <a:ea typeface="Arial"/>
              </a:rPr>
              <a:t>Mgmt. not aware of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2"/>
          <p:cNvSpPr/>
          <p:nvPr/>
        </p:nvSpPr>
        <p:spPr>
          <a:xfrm flipH="1" flipV="1">
            <a:off x="4833720" y="3087360"/>
            <a:ext cx="29340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33"/>
          <p:cNvSpPr/>
          <p:nvPr/>
        </p:nvSpPr>
        <p:spPr>
          <a:xfrm flipH="1" flipV="1">
            <a:off x="6473880" y="5345280"/>
            <a:ext cx="565200" cy="249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Text Box 141"/>
          <p:cNvSpPr/>
          <p:nvPr/>
        </p:nvSpPr>
        <p:spPr>
          <a:xfrm>
            <a:off x="7085160" y="5415120"/>
            <a:ext cx="125064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7c6a55"/>
                </a:solidFill>
                <a:latin typeface="Arial"/>
                <a:ea typeface="Arial"/>
              </a:rPr>
              <a:t>“</a:t>
            </a:r>
            <a:r>
              <a:rPr b="0" lang="en-CA" sz="1200" spc="-1" strike="noStrike">
                <a:solidFill>
                  <a:srgbClr val="7c6a55"/>
                </a:solidFill>
                <a:latin typeface="Arial"/>
                <a:ea typeface="Arial"/>
              </a:rPr>
              <a:t>Managers don’t get involved in operation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19"/>
          <p:cNvSpPr/>
          <p:nvPr/>
        </p:nvSpPr>
        <p:spPr>
          <a:xfrm>
            <a:off x="1574640" y="3324240"/>
            <a:ext cx="6382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Text Box 95"/>
          <p:cNvSpPr/>
          <p:nvPr/>
        </p:nvSpPr>
        <p:spPr>
          <a:xfrm>
            <a:off x="569880" y="3289320"/>
            <a:ext cx="10652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7c6a55"/>
                </a:solidFill>
                <a:latin typeface="Arial"/>
                <a:ea typeface="Arial"/>
              </a:rPr>
              <a:t>No “voice of clien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26"/>
          <p:cNvSpPr/>
          <p:nvPr/>
        </p:nvSpPr>
        <p:spPr>
          <a:xfrm flipH="1">
            <a:off x="6589800" y="2443320"/>
            <a:ext cx="296640" cy="139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Text Box 131"/>
          <p:cNvSpPr/>
          <p:nvPr/>
        </p:nvSpPr>
        <p:spPr>
          <a:xfrm>
            <a:off x="6657840" y="2087640"/>
            <a:ext cx="14925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7c6a55"/>
                </a:solidFill>
                <a:latin typeface="Arial"/>
                <a:ea typeface="Arial"/>
              </a:rPr>
              <a:t>Uneven work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9" name="Group 3"/>
          <p:cNvGrpSpPr/>
          <p:nvPr/>
        </p:nvGrpSpPr>
        <p:grpSpPr>
          <a:xfrm>
            <a:off x="46080" y="1336680"/>
            <a:ext cx="9063000" cy="5030280"/>
            <a:chOff x="46080" y="1336680"/>
            <a:chExt cx="9063000" cy="5030280"/>
          </a:xfrm>
        </p:grpSpPr>
        <p:grpSp>
          <p:nvGrpSpPr>
            <p:cNvPr id="1770" name="Group 76"/>
            <p:cNvGrpSpPr/>
            <p:nvPr/>
          </p:nvGrpSpPr>
          <p:grpSpPr>
            <a:xfrm>
              <a:off x="46080" y="1336680"/>
              <a:ext cx="9021960" cy="5030280"/>
              <a:chOff x="46080" y="1336680"/>
              <a:chExt cx="9021960" cy="5030280"/>
            </a:xfrm>
          </p:grpSpPr>
          <p:sp>
            <p:nvSpPr>
              <p:cNvPr id="1771" name="Rectangle 77"/>
              <p:cNvSpPr/>
              <p:nvPr/>
            </p:nvSpPr>
            <p:spPr>
              <a:xfrm>
                <a:off x="2721240" y="1336680"/>
                <a:ext cx="942480" cy="335880"/>
              </a:xfrm>
              <a:prstGeom prst="rect">
                <a:avLst/>
              </a:prstGeom>
              <a:solidFill>
                <a:srgbClr val="00b0f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CA" sz="1600" spc="-1" strike="noStrike">
                    <a:solidFill>
                      <a:srgbClr val="ffffff"/>
                    </a:solidFill>
                    <a:latin typeface="Arial Black"/>
                    <a:ea typeface="Arial"/>
                  </a:rPr>
                  <a:t>PEOP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Rectangle 78"/>
              <p:cNvSpPr/>
              <p:nvPr/>
            </p:nvSpPr>
            <p:spPr>
              <a:xfrm>
                <a:off x="2516040" y="6031080"/>
                <a:ext cx="851040" cy="335880"/>
              </a:xfrm>
              <a:prstGeom prst="rect">
                <a:avLst/>
              </a:prstGeom>
              <a:solidFill>
                <a:srgbClr val="00b0f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CA" sz="1600" spc="-1" strike="noStrike">
                    <a:solidFill>
                      <a:srgbClr val="ffffff"/>
                    </a:solidFill>
                    <a:latin typeface="Arial Black"/>
                    <a:ea typeface="Arial"/>
                  </a:rPr>
                  <a:t>TOOL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Rectangle 79"/>
              <p:cNvSpPr/>
              <p:nvPr/>
            </p:nvSpPr>
            <p:spPr>
              <a:xfrm>
                <a:off x="5501160" y="5996160"/>
                <a:ext cx="1221480" cy="335880"/>
              </a:xfrm>
              <a:prstGeom prst="rect">
                <a:avLst/>
              </a:prstGeom>
              <a:solidFill>
                <a:srgbClr val="00b0f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CA" sz="1600" spc="-1" strike="noStrike">
                    <a:solidFill>
                      <a:srgbClr val="ffffff"/>
                    </a:solidFill>
                    <a:latin typeface="Arial Black"/>
                    <a:ea typeface="Arial"/>
                  </a:rPr>
                  <a:t>MINDSET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Rectangle 80"/>
              <p:cNvSpPr/>
              <p:nvPr/>
            </p:nvSpPr>
            <p:spPr>
              <a:xfrm>
                <a:off x="5199480" y="1349280"/>
                <a:ext cx="1073520" cy="335880"/>
              </a:xfrm>
              <a:prstGeom prst="rect">
                <a:avLst/>
              </a:prstGeom>
              <a:solidFill>
                <a:srgbClr val="00b0f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CA" sz="1600" spc="-1" strike="noStrike">
                    <a:solidFill>
                      <a:srgbClr val="ffffff"/>
                    </a:solidFill>
                    <a:latin typeface="Arial Black"/>
                    <a:ea typeface="Arial"/>
                  </a:rPr>
                  <a:t>PROCES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Rectangle 81"/>
              <p:cNvSpPr/>
              <p:nvPr/>
            </p:nvSpPr>
            <p:spPr>
              <a:xfrm>
                <a:off x="7748640" y="3224160"/>
                <a:ext cx="1319400" cy="1200240"/>
              </a:xfrm>
              <a:prstGeom prst="rect">
                <a:avLst/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200" spc="-1" strike="noStrike">
                    <a:solidFill>
                      <a:srgbClr val="ffffff"/>
                    </a:solidFill>
                    <a:latin typeface="Arial Black"/>
                    <a:ea typeface="Arial"/>
                  </a:rPr>
                  <a:t>In Souther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200" spc="-1" strike="noStrike">
                    <a:solidFill>
                      <a:srgbClr val="ffffff"/>
                    </a:solidFill>
                    <a:latin typeface="Arial Black"/>
                    <a:ea typeface="Arial"/>
                  </a:rPr>
                  <a:t> </a:t>
                </a:r>
                <a:r>
                  <a:rPr b="0" lang="en-CA" sz="1200" spc="-1" strike="noStrike">
                    <a:solidFill>
                      <a:srgbClr val="ffffff"/>
                    </a:solidFill>
                    <a:latin typeface="Arial Black"/>
                    <a:ea typeface="Arial"/>
                  </a:rPr>
                  <a:t>Region, 25 %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200" spc="-1" strike="noStrike">
                    <a:solidFill>
                      <a:srgbClr val="ffffff"/>
                    </a:solidFill>
                    <a:latin typeface="Arial Black"/>
                    <a:ea typeface="Arial"/>
                  </a:rPr>
                  <a:t>of files sent to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200" spc="-1" strike="noStrike">
                    <a:solidFill>
                      <a:srgbClr val="ffffff"/>
                    </a:solidFill>
                    <a:latin typeface="Arial Black"/>
                    <a:ea typeface="Arial"/>
                  </a:rPr>
                  <a:t>applicant 10+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200" spc="-1" strike="noStrike">
                    <a:solidFill>
                      <a:srgbClr val="ffffff"/>
                    </a:solidFill>
                    <a:latin typeface="Arial Black"/>
                    <a:ea typeface="Arial"/>
                  </a:rPr>
                  <a:t> </a:t>
                </a:r>
                <a:r>
                  <a:rPr b="0" lang="en-CA" sz="1200" spc="-1" strike="noStrike">
                    <a:solidFill>
                      <a:srgbClr val="ffffff"/>
                    </a:solidFill>
                    <a:latin typeface="Arial Black"/>
                    <a:ea typeface="Arial"/>
                  </a:rPr>
                  <a:t>days la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Text Box 83"/>
              <p:cNvSpPr/>
              <p:nvPr/>
            </p:nvSpPr>
            <p:spPr>
              <a:xfrm>
                <a:off x="4311720" y="2008080"/>
                <a:ext cx="1633680" cy="61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200" spc="-1" strike="noStrike">
                    <a:solidFill>
                      <a:srgbClr val="7c6a55"/>
                    </a:solidFill>
                    <a:latin typeface="Arial"/>
                    <a:ea typeface="Arial"/>
                  </a:rPr>
                  <a:t>Staff not trained in process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77" name="AutoShape 84"/>
              <p:cNvCxnSpPr>
                <a:stCxn id="1771" idx="2"/>
              </p:cNvCxnSpPr>
              <p:nvPr/>
            </p:nvCxnSpPr>
            <p:spPr>
              <a:xfrm>
                <a:off x="3192480" y="1676160"/>
                <a:ext cx="1656720" cy="2213640"/>
              </a:xfrm>
              <a:prstGeom prst="straightConnector1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778" name="AutoShape 85"/>
              <p:cNvCxnSpPr>
                <a:stCxn id="1772" idx="0"/>
              </p:cNvCxnSpPr>
              <p:nvPr/>
            </p:nvCxnSpPr>
            <p:spPr>
              <a:xfrm flipV="1">
                <a:off x="2941200" y="3962160"/>
                <a:ext cx="1173960" cy="2069280"/>
              </a:xfrm>
              <a:prstGeom prst="straightConnector1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779" name="Line 88"/>
              <p:cNvSpPr/>
              <p:nvPr/>
            </p:nvSpPr>
            <p:spPr>
              <a:xfrm>
                <a:off x="2806920" y="2292480"/>
                <a:ext cx="91800" cy="301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Text Box 89"/>
              <p:cNvSpPr/>
              <p:nvPr/>
            </p:nvSpPr>
            <p:spPr>
              <a:xfrm>
                <a:off x="3416400" y="2163960"/>
                <a:ext cx="9237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Text Box 90"/>
              <p:cNvSpPr/>
              <p:nvPr/>
            </p:nvSpPr>
            <p:spPr>
              <a:xfrm>
                <a:off x="3416400" y="2233800"/>
                <a:ext cx="781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Line 94"/>
              <p:cNvSpPr/>
              <p:nvPr/>
            </p:nvSpPr>
            <p:spPr>
              <a:xfrm>
                <a:off x="3359160" y="2763720"/>
                <a:ext cx="56844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Text Box 95"/>
              <p:cNvSpPr/>
              <p:nvPr/>
            </p:nvSpPr>
            <p:spPr>
              <a:xfrm>
                <a:off x="2389320" y="2583000"/>
                <a:ext cx="106524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200" spc="-1" strike="noStrike">
                    <a:solidFill>
                      <a:srgbClr val="7c6a55"/>
                    </a:solidFill>
                    <a:latin typeface="Arial"/>
                    <a:ea typeface="Arial"/>
                  </a:rPr>
                  <a:t>Staff don’t do much file wor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Line 100"/>
              <p:cNvSpPr/>
              <p:nvPr/>
            </p:nvSpPr>
            <p:spPr>
              <a:xfrm>
                <a:off x="281160" y="3908520"/>
                <a:ext cx="7467480" cy="31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Text Box 102"/>
              <p:cNvSpPr/>
              <p:nvPr/>
            </p:nvSpPr>
            <p:spPr>
              <a:xfrm>
                <a:off x="46080" y="4837320"/>
                <a:ext cx="1420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200" spc="-1" strike="noStrike">
                    <a:solidFill>
                      <a:srgbClr val="7c6a55"/>
                    </a:solidFill>
                    <a:latin typeface="Arial"/>
                    <a:ea typeface="Arial"/>
                  </a:rPr>
                  <a:t>No visible flow to manag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Line 105"/>
              <p:cNvSpPr/>
              <p:nvPr/>
            </p:nvSpPr>
            <p:spPr>
              <a:xfrm flipH="1">
                <a:off x="3120840" y="5415120"/>
                <a:ext cx="685800" cy="32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Line 107"/>
              <p:cNvSpPr/>
              <p:nvPr/>
            </p:nvSpPr>
            <p:spPr>
              <a:xfrm flipH="1">
                <a:off x="3754440" y="4514760"/>
                <a:ext cx="503280" cy="18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Text Box 108"/>
              <p:cNvSpPr/>
              <p:nvPr/>
            </p:nvSpPr>
            <p:spPr>
              <a:xfrm>
                <a:off x="3075120" y="3233880"/>
                <a:ext cx="1236600" cy="61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200" spc="-1" strike="noStrike">
                    <a:solidFill>
                      <a:srgbClr val="7c6a55"/>
                    </a:solidFill>
                    <a:latin typeface="Arial"/>
                    <a:ea typeface="Arial"/>
                  </a:rPr>
                  <a:t>Staff choose own work assignmen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Text Box 110"/>
              <p:cNvSpPr/>
              <p:nvPr/>
            </p:nvSpPr>
            <p:spPr>
              <a:xfrm>
                <a:off x="3851280" y="4986360"/>
                <a:ext cx="105084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200" spc="-1" strike="noStrike">
                    <a:solidFill>
                      <a:srgbClr val="7c6a55"/>
                    </a:solidFill>
                    <a:latin typeface="Arial"/>
                    <a:ea typeface="Arial"/>
                  </a:rPr>
                  <a:t>75% of macros require rewor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90" name="AutoShape 111"/>
              <p:cNvCxnSpPr>
                <a:stCxn id="1773" idx="0"/>
              </p:cNvCxnSpPr>
              <p:nvPr/>
            </p:nvCxnSpPr>
            <p:spPr>
              <a:xfrm flipV="1">
                <a:off x="6111720" y="3907800"/>
                <a:ext cx="1221480" cy="2088360"/>
              </a:xfrm>
              <a:prstGeom prst="straightConnector1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791" name="Text Box 113"/>
              <p:cNvSpPr/>
              <p:nvPr/>
            </p:nvSpPr>
            <p:spPr>
              <a:xfrm>
                <a:off x="5369040" y="4145040"/>
                <a:ext cx="1579680" cy="44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200" spc="-1" strike="noStrike">
                    <a:solidFill>
                      <a:srgbClr val="7c6a55"/>
                    </a:solidFill>
                    <a:latin typeface="Arial"/>
                    <a:ea typeface="Arial"/>
                  </a:rPr>
                  <a:t>“</a:t>
                </a:r>
                <a:r>
                  <a:rPr b="0" lang="en-CA" sz="1200" spc="-1" strike="noStrike">
                    <a:solidFill>
                      <a:srgbClr val="7c6a55"/>
                    </a:solidFill>
                    <a:latin typeface="Arial"/>
                    <a:ea typeface="Arial"/>
                  </a:rPr>
                  <a:t>Standard work is limiting”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Line 114"/>
              <p:cNvSpPr/>
              <p:nvPr/>
            </p:nvSpPr>
            <p:spPr>
              <a:xfrm>
                <a:off x="6112080" y="5045040"/>
                <a:ext cx="361800" cy="5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Line 115"/>
              <p:cNvSpPr/>
              <p:nvPr/>
            </p:nvSpPr>
            <p:spPr>
              <a:xfrm flipV="1">
                <a:off x="3254400" y="2954520"/>
                <a:ext cx="0" cy="334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Text Box 116"/>
              <p:cNvSpPr/>
              <p:nvPr/>
            </p:nvSpPr>
            <p:spPr>
              <a:xfrm>
                <a:off x="5173560" y="4505400"/>
                <a:ext cx="1198800" cy="105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200" spc="-1" strike="noStrike">
                    <a:solidFill>
                      <a:srgbClr val="7c6a55"/>
                    </a:solidFill>
                    <a:latin typeface="Arial"/>
                    <a:ea typeface="Arial"/>
                  </a:rPr>
                  <a:t>“</a:t>
                </a:r>
                <a:r>
                  <a:rPr b="0" lang="en-CA" sz="1200" spc="-1" strike="noStrike">
                    <a:solidFill>
                      <a:srgbClr val="7c6a55"/>
                    </a:solidFill>
                    <a:latin typeface="Arial"/>
                    <a:ea typeface="Arial"/>
                  </a:rPr>
                  <a:t>Clients not as important as making the numbers”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95" name="AutoShape 118"/>
              <p:cNvCxnSpPr/>
              <p:nvPr/>
            </p:nvCxnSpPr>
            <p:spPr>
              <a:xfrm>
                <a:off x="5910480" y="1724040"/>
                <a:ext cx="1620000" cy="2216880"/>
              </a:xfrm>
              <a:prstGeom prst="straightConnector1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796" name="Line 119"/>
              <p:cNvSpPr/>
              <p:nvPr/>
            </p:nvSpPr>
            <p:spPr>
              <a:xfrm>
                <a:off x="1365480" y="2973600"/>
                <a:ext cx="6379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Line 120"/>
              <p:cNvSpPr/>
              <p:nvPr/>
            </p:nvSpPr>
            <p:spPr>
              <a:xfrm>
                <a:off x="831960" y="2498760"/>
                <a:ext cx="852480" cy="8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Line 122"/>
              <p:cNvSpPr/>
              <p:nvPr/>
            </p:nvSpPr>
            <p:spPr>
              <a:xfrm>
                <a:off x="6399360" y="4422960"/>
                <a:ext cx="639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Line 125"/>
              <p:cNvSpPr/>
              <p:nvPr/>
            </p:nvSpPr>
            <p:spPr>
              <a:xfrm flipH="1">
                <a:off x="6732360" y="2800440"/>
                <a:ext cx="1152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Line 126"/>
              <p:cNvSpPr/>
              <p:nvPr/>
            </p:nvSpPr>
            <p:spPr>
              <a:xfrm flipH="1">
                <a:off x="8150400" y="1968480"/>
                <a:ext cx="93600" cy="428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Line 128"/>
              <p:cNvSpPr/>
              <p:nvPr/>
            </p:nvSpPr>
            <p:spPr>
              <a:xfrm flipH="1">
                <a:off x="6886800" y="3070440"/>
                <a:ext cx="637920" cy="1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Text Box 129"/>
              <p:cNvSpPr/>
              <p:nvPr/>
            </p:nvSpPr>
            <p:spPr>
              <a:xfrm>
                <a:off x="7842240" y="2325600"/>
                <a:ext cx="1193760" cy="61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200" spc="-1" strike="noStrike">
                    <a:solidFill>
                      <a:srgbClr val="7c6a55"/>
                    </a:solidFill>
                    <a:latin typeface="Arial"/>
                    <a:ea typeface="Arial"/>
                  </a:rPr>
                  <a:t>No standard process for task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Text Box 131"/>
              <p:cNvSpPr/>
              <p:nvPr/>
            </p:nvSpPr>
            <p:spPr>
              <a:xfrm>
                <a:off x="7451640" y="2916360"/>
                <a:ext cx="149256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200" spc="-1" strike="noStrike">
                    <a:solidFill>
                      <a:srgbClr val="7c6a55"/>
                    </a:solidFill>
                    <a:latin typeface="Arial"/>
                    <a:ea typeface="Arial"/>
                  </a:rPr>
                  <a:t>Large batch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Line 132"/>
              <p:cNvSpPr/>
              <p:nvPr/>
            </p:nvSpPr>
            <p:spPr>
              <a:xfrm flipH="1">
                <a:off x="3564000" y="2087640"/>
                <a:ext cx="78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Line 133"/>
              <p:cNvSpPr/>
              <p:nvPr/>
            </p:nvSpPr>
            <p:spPr>
              <a:xfrm flipH="1">
                <a:off x="6683400" y="4921200"/>
                <a:ext cx="674640" cy="12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Line 136"/>
              <p:cNvSpPr/>
              <p:nvPr/>
            </p:nvSpPr>
            <p:spPr>
              <a:xfrm flipV="1">
                <a:off x="5737320" y="5554800"/>
                <a:ext cx="522360" cy="117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Text Box 139"/>
              <p:cNvSpPr/>
              <p:nvPr/>
            </p:nvSpPr>
            <p:spPr>
              <a:xfrm>
                <a:off x="4734000" y="5440320"/>
                <a:ext cx="1206360" cy="44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200" spc="-1" strike="noStrike">
                    <a:solidFill>
                      <a:srgbClr val="7c6a55"/>
                    </a:solidFill>
                    <a:latin typeface="Arial"/>
                    <a:ea typeface="Arial"/>
                  </a:rPr>
                  <a:t>“</a:t>
                </a:r>
                <a:r>
                  <a:rPr b="0" lang="en-CA" sz="1200" spc="-1" strike="noStrike">
                    <a:solidFill>
                      <a:srgbClr val="7c6a55"/>
                    </a:solidFill>
                    <a:latin typeface="Arial"/>
                    <a:ea typeface="Arial"/>
                  </a:rPr>
                  <a:t>Always done it this way”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Text Box 141"/>
              <p:cNvSpPr/>
              <p:nvPr/>
            </p:nvSpPr>
            <p:spPr>
              <a:xfrm>
                <a:off x="7309080" y="4649760"/>
                <a:ext cx="1250640" cy="61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200" spc="-1" strike="noStrike">
                    <a:solidFill>
                      <a:srgbClr val="7c6a55"/>
                    </a:solidFill>
                    <a:latin typeface="Arial"/>
                    <a:ea typeface="Arial"/>
                  </a:rPr>
                  <a:t>“</a:t>
                </a:r>
                <a:r>
                  <a:rPr b="0" lang="en-CA" sz="1200" spc="-1" strike="noStrike">
                    <a:solidFill>
                      <a:srgbClr val="7c6a55"/>
                    </a:solidFill>
                    <a:latin typeface="Arial"/>
                    <a:ea typeface="Arial"/>
                  </a:rPr>
                  <a:t>Accuracy more important than speed”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9" name="Text Box 131"/>
            <p:cNvSpPr/>
            <p:nvPr/>
          </p:nvSpPr>
          <p:spPr>
            <a:xfrm>
              <a:off x="7616880" y="1336680"/>
              <a:ext cx="149220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7c6a55"/>
                  </a:solidFill>
                  <a:latin typeface="Arial"/>
                  <a:ea typeface="Arial"/>
                </a:rPr>
                <a:t>Team believes standard processes are limi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23004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Fishbone (Ishikawa) Diagra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Slide Number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A7FA-E0F6-47D2-92E8-106BD7D30744}" type="slidenum">
              <a:rPr b="0" lang="en-CA" sz="1000" spc="-1" strike="noStrike">
                <a:solidFill>
                  <a:srgbClr val="7c6a55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Line 101"/>
          <p:cNvSpPr/>
          <p:nvPr/>
        </p:nvSpPr>
        <p:spPr>
          <a:xfrm>
            <a:off x="1319040" y="4719600"/>
            <a:ext cx="574920" cy="136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Text Box 102"/>
          <p:cNvSpPr/>
          <p:nvPr/>
        </p:nvSpPr>
        <p:spPr>
          <a:xfrm>
            <a:off x="0" y="4191120"/>
            <a:ext cx="1420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7c6a55"/>
                </a:solidFill>
                <a:latin typeface="Arial"/>
                <a:ea typeface="Arial"/>
              </a:rPr>
              <a:t>Requests unclear, require clar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ANALYZE</a:t>
            </a:r>
            <a:br>
              <a:rPr sz="4400"/>
            </a:b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What we know so fa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 txBox="1"/>
          <p:nvPr/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63a6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nalysis protects us from our first instincts – which are usually hasty solutions that do not address the true root cause of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63a6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t is critical to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validat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the root causes with data prior to implementing any solu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63a6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t this point you will have proven root causes that, if eliminated, will address at least part of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63a6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u may also have potential solutions in m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63a6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25DB-A9D1-46C1-AFAB-9654C427B53B}" type="slidenum">
              <a:rPr b="0" lang="en-US" sz="1000" spc="-1" strike="noStrike">
                <a:solidFill>
                  <a:srgbClr val="7c6a55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Rectangle 4"/>
          <p:cNvSpPr/>
          <p:nvPr/>
        </p:nvSpPr>
        <p:spPr>
          <a:xfrm>
            <a:off x="6705720" y="6248520"/>
            <a:ext cx="1903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D1EE-C21C-41D5-B48C-606EA0FD784C}" type="slidenum">
              <a:rPr b="0" lang="en-CA" sz="10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Rectangle 5"/>
          <p:cNvSpPr/>
          <p:nvPr/>
        </p:nvSpPr>
        <p:spPr>
          <a:xfrm>
            <a:off x="6705720" y="6248520"/>
            <a:ext cx="1903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2343FF-DF17-40C3-B39E-C478E5526550}" type="slidenum">
              <a:rPr b="0" lang="en-CA" sz="10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0" name="Content Placeholder 4" descr="questions.jpg"/>
          <p:cNvPicPr/>
          <p:nvPr/>
        </p:nvPicPr>
        <p:blipFill>
          <a:blip r:embed="rId1"/>
          <a:stretch/>
        </p:blipFill>
        <p:spPr>
          <a:xfrm>
            <a:off x="3564000" y="3068640"/>
            <a:ext cx="192384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4" name="Content Placeholder 4" descr=""/>
          <p:cNvPicPr/>
          <p:nvPr/>
        </p:nvPicPr>
        <p:blipFill>
          <a:blip r:embed="rId1"/>
          <a:stretch/>
        </p:blipFill>
        <p:spPr>
          <a:xfrm>
            <a:off x="-993600" y="1511280"/>
            <a:ext cx="10674000" cy="4981680"/>
          </a:xfrm>
          <a:prstGeom prst="rect">
            <a:avLst/>
          </a:prstGeom>
          <a:ln w="0">
            <a:noFill/>
          </a:ln>
        </p:spPr>
      </p:pic>
      <p:sp>
        <p:nvSpPr>
          <p:cNvPr id="1615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2407-BA81-4ABB-86EF-FD1411B21B22}" type="slidenum">
              <a:rPr b="0" lang="en-US" sz="1000" spc="-1" strike="noStrike" baseline="-25000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4. ANALYZE PART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ean Green Belt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D016-D421-4B77-8883-624A3A9476B9}" type="slidenum">
              <a:rPr b="0" lang="en-US" sz="1000" spc="-1" strike="noStrike">
                <a:solidFill>
                  <a:srgbClr val="7c6a55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722160" y="401472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MURA, MURI, MU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722160" y="25142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CB2C-EABA-45EB-8505-A9ECD85226C4}" type="slidenum">
              <a:rPr b="0" lang="en-US" sz="1000" spc="-1" strike="noStrike">
                <a:solidFill>
                  <a:srgbClr val="7c6a55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193320" y="26496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g Three Categories of Waste:  How backlogs often develo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956D-F4DA-485B-A9A8-58117D23BD0B}" type="slidenum">
              <a:rPr b="0" lang="en-US" sz="1000" spc="-1" strike="noStrike">
                <a:solidFill>
                  <a:srgbClr val="7c6a55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4" name="Picture 4" descr=""/>
          <p:cNvPicPr/>
          <p:nvPr/>
        </p:nvPicPr>
        <p:blipFill>
          <a:blip r:embed="rId1"/>
          <a:stretch/>
        </p:blipFill>
        <p:spPr>
          <a:xfrm>
            <a:off x="620640" y="2619360"/>
            <a:ext cx="2643120" cy="161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25" name="Picture 5" descr=""/>
          <p:cNvPicPr/>
          <p:nvPr/>
        </p:nvPicPr>
        <p:blipFill>
          <a:blip r:embed="rId2"/>
          <a:stretch/>
        </p:blipFill>
        <p:spPr>
          <a:xfrm>
            <a:off x="4343400" y="2679840"/>
            <a:ext cx="1143000" cy="1523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26" name="Rectangle 6"/>
          <p:cNvSpPr/>
          <p:nvPr/>
        </p:nvSpPr>
        <p:spPr>
          <a:xfrm>
            <a:off x="6553080" y="2619360"/>
            <a:ext cx="2286000" cy="230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7c6a55"/>
                </a:solidFill>
                <a:latin typeface="Arial"/>
              </a:rPr>
              <a:t>Wai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7c6a55"/>
                </a:solidFill>
                <a:latin typeface="Arial"/>
              </a:rPr>
              <a:t>Incomplete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7c6a55"/>
                </a:solidFill>
                <a:latin typeface="Arial"/>
              </a:rPr>
              <a:t>Expedi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7c6a55"/>
                </a:solidFill>
                <a:latin typeface="Arial"/>
              </a:rPr>
              <a:t>Errors and re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7c6a55"/>
                </a:solidFill>
                <a:latin typeface="Arial"/>
              </a:rPr>
              <a:t>Unused reports and their data col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7c6a55"/>
                </a:solidFill>
                <a:latin typeface="Arial"/>
              </a:rPr>
              <a:t>Unnecessary approv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7c6a55"/>
                </a:solidFill>
                <a:latin typeface="Arial"/>
              </a:rPr>
              <a:t>Managing a back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7c6a55"/>
                </a:solidFill>
                <a:latin typeface="Arial"/>
              </a:rPr>
              <a:t>Misunderstandings/poor 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TextBox 7"/>
          <p:cNvSpPr/>
          <p:nvPr/>
        </p:nvSpPr>
        <p:spPr>
          <a:xfrm>
            <a:off x="619560" y="1484280"/>
            <a:ext cx="27806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7c6a55"/>
                </a:solidFill>
                <a:latin typeface="Arial"/>
                <a:ea typeface="Arial"/>
              </a:rPr>
              <a:t>MURA / Unevenness:</a:t>
            </a:r>
            <a:r>
              <a:rPr b="1" lang="en-US" sz="2400" spc="-1" strike="noStrike">
                <a:solidFill>
                  <a:srgbClr val="7c6a55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7c6a55"/>
                </a:solidFill>
                <a:latin typeface="Arial"/>
                <a:ea typeface="Arial"/>
              </a:rPr>
              <a:t>Unaddressed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7c6a55"/>
                </a:solidFill>
                <a:latin typeface="Arial"/>
                <a:ea typeface="Arial"/>
              </a:rPr>
              <a:t>in work  /  decrease in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TextBox 8"/>
          <p:cNvSpPr/>
          <p:nvPr/>
        </p:nvSpPr>
        <p:spPr>
          <a:xfrm>
            <a:off x="4347720" y="1841400"/>
            <a:ext cx="11851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7c6a55"/>
                </a:solidFill>
                <a:latin typeface="Arial"/>
                <a:ea typeface="Arial"/>
              </a:rPr>
              <a:t>MURI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7c6a55"/>
                </a:solidFill>
                <a:latin typeface="Arial"/>
                <a:ea typeface="Arial"/>
              </a:rPr>
              <a:t>Over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TextBox 9"/>
          <p:cNvSpPr/>
          <p:nvPr/>
        </p:nvSpPr>
        <p:spPr>
          <a:xfrm>
            <a:off x="6874920" y="1484280"/>
            <a:ext cx="18313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7c6a55"/>
                </a:solidFill>
                <a:latin typeface="Arial"/>
                <a:ea typeface="Arial"/>
              </a:rPr>
              <a:t>MUDA:</a:t>
            </a:r>
            <a:r>
              <a:rPr b="1" lang="en-US" sz="2400" spc="-1" strike="noStrike">
                <a:solidFill>
                  <a:srgbClr val="7c6a55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 baseline="-25000">
                <a:solidFill>
                  <a:srgbClr val="7c6a55"/>
                </a:solidFill>
                <a:latin typeface="Arial"/>
                <a:ea typeface="Arial"/>
              </a:rPr>
              <a:t>“Waste”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7c6a55"/>
                </a:solidFill>
                <a:latin typeface="Arial"/>
                <a:ea typeface="Arial"/>
              </a:rPr>
              <a:t>interrup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7c6a55"/>
                </a:solidFill>
                <a:latin typeface="Arial"/>
                <a:ea typeface="Arial"/>
              </a:rPr>
              <a:t>to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TextBox 10"/>
          <p:cNvSpPr/>
          <p:nvPr/>
        </p:nvSpPr>
        <p:spPr>
          <a:xfrm>
            <a:off x="3413520" y="3213000"/>
            <a:ext cx="80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f26531"/>
                </a:solidFill>
                <a:latin typeface="Arial"/>
                <a:ea typeface="Arial"/>
              </a:rPr>
              <a:t>cre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TextBox 11"/>
          <p:cNvSpPr/>
          <p:nvPr/>
        </p:nvSpPr>
        <p:spPr>
          <a:xfrm>
            <a:off x="5556960" y="3070080"/>
            <a:ext cx="9489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f26531"/>
                </a:solidFill>
                <a:latin typeface="Arial"/>
                <a:ea typeface="Arial"/>
              </a:rPr>
              <a:t>ma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f26531"/>
                </a:solidFill>
                <a:latin typeface="Arial"/>
                <a:ea typeface="Arial"/>
              </a:rPr>
              <a:t>worse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U-Turn Arrow 13"/>
          <p:cNvSpPr/>
          <p:nvPr/>
        </p:nvSpPr>
        <p:spPr>
          <a:xfrm rot="10800000">
            <a:off x="1676160" y="4507920"/>
            <a:ext cx="6019560" cy="609480"/>
          </a:xfrm>
          <a:custGeom>
            <a:avLst/>
            <a:gdLst/>
            <a:ahLst/>
            <a:rect l="l" t="t" r="r" b="b"/>
            <a:pathLst>
              <a:path w="6019800" h="609600">
                <a:moveTo>
                  <a:pt x="0" y="609600"/>
                </a:moveTo>
                <a:lnTo>
                  <a:pt x="0" y="266700"/>
                </a:lnTo>
                <a:cubicBezTo>
                  <a:pt x="0" y="119406"/>
                  <a:pt x="119406" y="0"/>
                  <a:pt x="266700" y="0"/>
                </a:cubicBezTo>
                <a:lnTo>
                  <a:pt x="5676900" y="0"/>
                </a:lnTo>
                <a:cubicBezTo>
                  <a:pt x="5824194" y="0"/>
                  <a:pt x="5943600" y="119406"/>
                  <a:pt x="5943600" y="266700"/>
                </a:cubicBezTo>
                <a:lnTo>
                  <a:pt x="5943600" y="304800"/>
                </a:lnTo>
                <a:lnTo>
                  <a:pt x="6019800" y="304800"/>
                </a:lnTo>
                <a:lnTo>
                  <a:pt x="5867400" y="457200"/>
                </a:lnTo>
                <a:lnTo>
                  <a:pt x="5715000" y="304800"/>
                </a:lnTo>
                <a:lnTo>
                  <a:pt x="5791200" y="304800"/>
                </a:lnTo>
                <a:lnTo>
                  <a:pt x="5791200" y="266700"/>
                </a:lnTo>
                <a:cubicBezTo>
                  <a:pt x="5791200" y="203574"/>
                  <a:pt x="5740026" y="152400"/>
                  <a:pt x="5676900" y="152400"/>
                </a:cubicBezTo>
                <a:lnTo>
                  <a:pt x="266700" y="152400"/>
                </a:lnTo>
                <a:cubicBezTo>
                  <a:pt x="203574" y="152400"/>
                  <a:pt x="152400" y="203574"/>
                  <a:pt x="152400" y="266700"/>
                </a:cubicBezTo>
                <a:lnTo>
                  <a:pt x="152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TextBox 14"/>
          <p:cNvSpPr/>
          <p:nvPr/>
        </p:nvSpPr>
        <p:spPr>
          <a:xfrm>
            <a:off x="620640" y="5270400"/>
            <a:ext cx="2743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baseline="-25000">
                <a:solidFill>
                  <a:srgbClr val="7c6a55"/>
                </a:solidFill>
                <a:latin typeface="Arial"/>
                <a:ea typeface="Arial"/>
              </a:rPr>
              <a:t>Senior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TextBox 15"/>
          <p:cNvSpPr/>
          <p:nvPr/>
        </p:nvSpPr>
        <p:spPr>
          <a:xfrm>
            <a:off x="3648240" y="5270400"/>
            <a:ext cx="27432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baseline="-25000">
                <a:solidFill>
                  <a:srgbClr val="7c6a55"/>
                </a:solidFill>
                <a:latin typeface="Arial"/>
                <a:ea typeface="Arial"/>
              </a:rPr>
              <a:t>Mid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baseline="-25000">
                <a:solidFill>
                  <a:srgbClr val="7c6a55"/>
                </a:solidFill>
                <a:latin typeface="Arial"/>
                <a:ea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TextBox 16"/>
          <p:cNvSpPr/>
          <p:nvPr/>
        </p:nvSpPr>
        <p:spPr>
          <a:xfrm>
            <a:off x="6324480" y="5270400"/>
            <a:ext cx="27432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baseline="-25000">
                <a:solidFill>
                  <a:srgbClr val="7c6a55"/>
                </a:solidFill>
                <a:latin typeface="Arial"/>
                <a:ea typeface="Arial"/>
              </a:rPr>
              <a:t>Front 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baseline="-25000">
                <a:solidFill>
                  <a:srgbClr val="7c6a55"/>
                </a:solidFill>
                <a:latin typeface="Arial"/>
                <a:ea typeface="Arial"/>
              </a:rPr>
              <a:t>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TextBox 17"/>
          <p:cNvSpPr/>
          <p:nvPr/>
        </p:nvSpPr>
        <p:spPr>
          <a:xfrm rot="16200000">
            <a:off x="25920" y="5112720"/>
            <a:ext cx="158760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 baseline="-25000">
                <a:solidFill>
                  <a:srgbClr val="7c6a55"/>
                </a:solidFill>
                <a:latin typeface="Arial"/>
                <a:ea typeface="Arial"/>
              </a:rPr>
              <a:t>Typically addressed by</a:t>
            </a:r>
            <a:r>
              <a:rPr b="1" lang="en-CA" sz="3200" spc="-1" strike="noStrike" baseline="-25000">
                <a:solidFill>
                  <a:srgbClr val="7c6a55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228600" y="1447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22860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b0201"/>
                </a:solidFill>
                <a:latin typeface="Arial"/>
              </a:rPr>
              <a:t>Value-Added (V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b0201"/>
                </a:solidFill>
                <a:latin typeface="Arial"/>
              </a:rPr>
              <a:t>A process step that the Client would be willing to pay for if they knew about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b0201"/>
                </a:solidFill>
                <a:latin typeface="Arial"/>
              </a:rPr>
              <a:t>Done correctly the firs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b0201"/>
                </a:solidFill>
                <a:latin typeface="Arial"/>
              </a:rPr>
              <a:t>Non-Value Added (NV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b0201"/>
                </a:solidFill>
                <a:latin typeface="Arial"/>
              </a:rPr>
              <a:t>Anything that the Client would </a:t>
            </a:r>
            <a:r>
              <a:rPr b="0" lang="en-CA" sz="2000" spc="-1" strike="noStrike" u="sng">
                <a:solidFill>
                  <a:srgbClr val="0b0201"/>
                </a:solidFill>
                <a:uFillTx/>
                <a:latin typeface="Arial"/>
              </a:rPr>
              <a:t>not</a:t>
            </a:r>
            <a:r>
              <a:rPr b="0" lang="en-CA" sz="2000" spc="-1" strike="noStrike">
                <a:solidFill>
                  <a:srgbClr val="0b0201"/>
                </a:solidFill>
                <a:latin typeface="Arial"/>
              </a:rPr>
              <a:t> be willing to pay for if they knew about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b0201"/>
                </a:solidFill>
                <a:latin typeface="Arial"/>
              </a:rPr>
              <a:t>Anything that interrupts the forward flow of the work through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e1e20"/>
                </a:solidFill>
                <a:latin typeface="Arial"/>
              </a:rPr>
              <a:t>Examples from the Department of Addition Simul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66E4-A567-4E8C-A126-CE3ED8FA4287}" type="slidenum">
              <a:rPr b="0" lang="en-US" sz="1000" spc="-1" strike="noStrike" baseline="-25000">
                <a:solidFill>
                  <a:srgbClr val="7c6a55"/>
                </a:solidFill>
                <a:latin typeface="Arial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6840" y="1164960"/>
            <a:ext cx="762012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n-Value Added</a:t>
            </a:r>
            <a:br>
              <a:rPr sz="4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typ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 txBox="1"/>
          <p:nvPr/>
        </p:nvSpPr>
        <p:spPr>
          <a:xfrm>
            <a:off x="838080" y="2590920"/>
            <a:ext cx="3068640" cy="3254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 Value Added (BV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es not add value in eyes of end user/Client, but it i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rrentl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ecessary to deliver the product or serv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Slide Number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4A61-461D-490F-A677-5DBA89908298}" type="slidenum">
              <a:rPr b="0" lang="en-US" sz="1000" spc="-1" strike="noStrike" baseline="-25000">
                <a:solidFill>
                  <a:srgbClr val="7c6a55"/>
                </a:solidFill>
                <a:latin typeface="Arial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Content Placeholder 2"/>
          <p:cNvSpPr/>
          <p:nvPr/>
        </p:nvSpPr>
        <p:spPr>
          <a:xfrm>
            <a:off x="4724280" y="2590920"/>
            <a:ext cx="3035520" cy="3254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Pure Non-Value Added (NV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Does not add value in eyes of end user/Client,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an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 if you stopped doing it, nothing bad would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1c478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1T12:37:14Z</dcterms:created>
  <dc:creator>Owner</dc:creator>
  <dc:description/>
  <dc:language>en-US</dc:language>
  <cp:lastModifiedBy>Mark Jarvis</cp:lastModifiedBy>
  <dcterms:modified xsi:type="dcterms:W3CDTF">2015-04-08T13:42:51Z</dcterms:modified>
  <cp:revision>44</cp:revision>
  <dc:subject/>
  <dc:title>PowerPoint Presentation</dc:title>
</cp:coreProperties>
</file>